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F7D1-B529-473A-B4E4-97E3BC219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549C-5BA4-412B-A99A-B410A9E4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9F7B-E3D7-4038-BE1B-C7FB0F0F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57EE-87C8-4655-8C5E-FBC4BD7C8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425C-0EB3-4A13-8F31-22B566E3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BBD1-33A6-4229-9076-580706F2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B5EA-63F2-4973-8875-5A782718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C65B-2753-4AD0-8290-FCE0DD56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20F5-0C40-4382-AD07-69179684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6C2B-2C11-4418-AD6E-7010B8DD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D941-B673-4BF0-9065-E8B960BE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DDAC-EDB6-4A3E-8612-85E2811B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79C5-0A6C-4E3A-94E5-527B240DC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151600" y="6583320"/>
            <a:ext cx="398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, Copyright (C) FUJITSU LIMITED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34560" y="3916440"/>
            <a:ext cx="671292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global computer &am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munications comp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6477120"/>
            <a:ext cx="2362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明朝"/>
              </a:rPr>
              <a:t>Fujitsu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14520" y="1343160"/>
            <a:ext cx="44229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65040" y="1333440"/>
            <a:ext cx="7948080" cy="5177880"/>
            <a:chOff x="365040" y="1333440"/>
            <a:chExt cx="7948080" cy="5177880"/>
          </a:xfrm>
        </p:grpSpPr>
        <p:grpSp>
          <p:nvGrpSpPr>
            <p:cNvPr id="46" name=""/>
            <p:cNvGrpSpPr/>
            <p:nvPr/>
          </p:nvGrpSpPr>
          <p:grpSpPr>
            <a:xfrm>
              <a:off x="365040" y="1340280"/>
              <a:ext cx="5553000" cy="4816800"/>
              <a:chOff x="365040" y="1340280"/>
              <a:chExt cx="5553000" cy="4816800"/>
            </a:xfrm>
          </p:grpSpPr>
          <p:sp>
            <p:nvSpPr>
              <p:cNvPr id="47" name=""/>
              <p:cNvSpPr/>
              <p:nvPr/>
            </p:nvSpPr>
            <p:spPr>
              <a:xfrm>
                <a:off x="1333440" y="2787480"/>
                <a:ext cx="44280" cy="69120"/>
              </a:xfrm>
              <a:custGeom>
                <a:avLst/>
                <a:gdLst/>
                <a:ahLst/>
                <a:rect l="l" t="t" r="r" b="b"/>
                <a:pathLst>
                  <a:path w="28" h="40">
                    <a:moveTo>
                      <a:pt x="27" y="2"/>
                    </a:moveTo>
                    <a:lnTo>
                      <a:pt x="27" y="36"/>
                    </a:lnTo>
                    <a:lnTo>
                      <a:pt x="17" y="39"/>
                    </a:lnTo>
                    <a:lnTo>
                      <a:pt x="0" y="8"/>
                    </a:lnTo>
                    <a:lnTo>
                      <a:pt x="10" y="0"/>
                    </a:lnTo>
                    <a:lnTo>
                      <a:pt x="27" y="2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808080"/>
                </a:solidFill>
                <a:round/>
              </a:ln>
              <a:effectLst>
                <a:outerShdw dist="71785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239120" y="2676960"/>
                <a:ext cx="39960" cy="92880"/>
              </a:xfrm>
              <a:custGeom>
                <a:avLst/>
                <a:gdLst/>
                <a:ahLst/>
                <a:rect l="l" t="t" r="r" b="b"/>
                <a:pathLst>
                  <a:path w="25" h="54">
                    <a:moveTo>
                      <a:pt x="24" y="0"/>
                    </a:moveTo>
                    <a:lnTo>
                      <a:pt x="0" y="10"/>
                    </a:lnTo>
                    <a:lnTo>
                      <a:pt x="5" y="53"/>
                    </a:lnTo>
                    <a:lnTo>
                      <a:pt x="19" y="47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808080"/>
                </a:solidFill>
                <a:round/>
              </a:ln>
              <a:effectLst>
                <a:outerShdw dist="71785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" name=""/>
              <p:cNvGrpSpPr/>
              <p:nvPr/>
            </p:nvGrpSpPr>
            <p:grpSpPr>
              <a:xfrm>
                <a:off x="5104800" y="5632920"/>
                <a:ext cx="813240" cy="524160"/>
                <a:chOff x="5104800" y="5632920"/>
                <a:chExt cx="813240" cy="52416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5790600" y="5632920"/>
                  <a:ext cx="127440" cy="317160"/>
                </a:xfrm>
                <a:custGeom>
                  <a:avLst/>
                  <a:gdLst/>
                  <a:ahLst/>
                  <a:rect l="l" t="t" r="r" b="b"/>
                  <a:pathLst>
                    <a:path w="80" h="184">
                      <a:moveTo>
                        <a:pt x="25" y="2"/>
                      </a:moveTo>
                      <a:lnTo>
                        <a:pt x="33" y="0"/>
                      </a:lnTo>
                      <a:lnTo>
                        <a:pt x="46" y="20"/>
                      </a:lnTo>
                      <a:lnTo>
                        <a:pt x="45" y="76"/>
                      </a:lnTo>
                      <a:lnTo>
                        <a:pt x="54" y="76"/>
                      </a:lnTo>
                      <a:lnTo>
                        <a:pt x="57" y="84"/>
                      </a:lnTo>
                      <a:lnTo>
                        <a:pt x="60" y="97"/>
                      </a:lnTo>
                      <a:lnTo>
                        <a:pt x="64" y="103"/>
                      </a:lnTo>
                      <a:lnTo>
                        <a:pt x="71" y="101"/>
                      </a:lnTo>
                      <a:lnTo>
                        <a:pt x="76" y="90"/>
                      </a:lnTo>
                      <a:lnTo>
                        <a:pt x="79" y="97"/>
                      </a:lnTo>
                      <a:lnTo>
                        <a:pt x="74" y="107"/>
                      </a:lnTo>
                      <a:lnTo>
                        <a:pt x="71" y="114"/>
                      </a:lnTo>
                      <a:lnTo>
                        <a:pt x="68" y="128"/>
                      </a:lnTo>
                      <a:lnTo>
                        <a:pt x="59" y="136"/>
                      </a:lnTo>
                      <a:lnTo>
                        <a:pt x="53" y="138"/>
                      </a:lnTo>
                      <a:lnTo>
                        <a:pt x="45" y="146"/>
                      </a:lnTo>
                      <a:lnTo>
                        <a:pt x="43" y="154"/>
                      </a:lnTo>
                      <a:lnTo>
                        <a:pt x="45" y="161"/>
                      </a:lnTo>
                      <a:lnTo>
                        <a:pt x="46" y="173"/>
                      </a:lnTo>
                      <a:lnTo>
                        <a:pt x="37" y="179"/>
                      </a:lnTo>
                      <a:lnTo>
                        <a:pt x="31" y="181"/>
                      </a:lnTo>
                      <a:lnTo>
                        <a:pt x="25" y="183"/>
                      </a:lnTo>
                      <a:lnTo>
                        <a:pt x="22" y="181"/>
                      </a:lnTo>
                      <a:lnTo>
                        <a:pt x="11" y="179"/>
                      </a:lnTo>
                      <a:lnTo>
                        <a:pt x="8" y="173"/>
                      </a:lnTo>
                      <a:lnTo>
                        <a:pt x="11" y="163"/>
                      </a:lnTo>
                      <a:lnTo>
                        <a:pt x="20" y="161"/>
                      </a:lnTo>
                      <a:lnTo>
                        <a:pt x="25" y="148"/>
                      </a:lnTo>
                      <a:lnTo>
                        <a:pt x="25" y="144"/>
                      </a:lnTo>
                      <a:lnTo>
                        <a:pt x="20" y="138"/>
                      </a:lnTo>
                      <a:lnTo>
                        <a:pt x="11" y="130"/>
                      </a:lnTo>
                      <a:lnTo>
                        <a:pt x="6" y="130"/>
                      </a:lnTo>
                      <a:lnTo>
                        <a:pt x="2" y="128"/>
                      </a:lnTo>
                      <a:lnTo>
                        <a:pt x="0" y="120"/>
                      </a:lnTo>
                      <a:lnTo>
                        <a:pt x="2" y="116"/>
                      </a:lnTo>
                      <a:lnTo>
                        <a:pt x="6" y="116"/>
                      </a:lnTo>
                      <a:lnTo>
                        <a:pt x="11" y="114"/>
                      </a:lnTo>
                      <a:lnTo>
                        <a:pt x="20" y="107"/>
                      </a:lnTo>
                      <a:lnTo>
                        <a:pt x="23" y="103"/>
                      </a:lnTo>
                      <a:lnTo>
                        <a:pt x="28" y="76"/>
                      </a:lnTo>
                      <a:lnTo>
                        <a:pt x="23" y="70"/>
                      </a:lnTo>
                      <a:lnTo>
                        <a:pt x="17" y="65"/>
                      </a:lnTo>
                      <a:lnTo>
                        <a:pt x="15" y="49"/>
                      </a:lnTo>
                      <a:lnTo>
                        <a:pt x="17" y="35"/>
                      </a:lnTo>
                      <a:lnTo>
                        <a:pt x="20" y="25"/>
                      </a:lnTo>
                      <a:lnTo>
                        <a:pt x="25" y="2"/>
                      </a:lnTo>
                    </a:path>
                  </a:pathLst>
                </a:custGeom>
                <a:solidFill>
                  <a:srgbClr val="ffffff"/>
                </a:solidFill>
                <a:ln cap="rnd" w="9360">
                  <a:solidFill>
                    <a:srgbClr val="808080"/>
                  </a:solidFill>
                  <a:round/>
                </a:ln>
                <a:effectLst>
                  <a:outerShdw dist="71785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5543280" y="5886360"/>
                  <a:ext cx="235800" cy="270720"/>
                </a:xfrm>
                <a:custGeom>
                  <a:avLst/>
                  <a:gdLst/>
                  <a:ahLst/>
                  <a:rect l="l" t="t" r="r" b="b"/>
                  <a:pathLst>
                    <a:path w="148" h="157">
                      <a:moveTo>
                        <a:pt x="103" y="0"/>
                      </a:moveTo>
                      <a:lnTo>
                        <a:pt x="120" y="0"/>
                      </a:lnTo>
                      <a:lnTo>
                        <a:pt x="147" y="45"/>
                      </a:lnTo>
                      <a:lnTo>
                        <a:pt x="119" y="78"/>
                      </a:lnTo>
                      <a:lnTo>
                        <a:pt x="119" y="93"/>
                      </a:lnTo>
                      <a:lnTo>
                        <a:pt x="112" y="99"/>
                      </a:lnTo>
                      <a:lnTo>
                        <a:pt x="97" y="99"/>
                      </a:lnTo>
                      <a:lnTo>
                        <a:pt x="76" y="119"/>
                      </a:lnTo>
                      <a:lnTo>
                        <a:pt x="60" y="138"/>
                      </a:lnTo>
                      <a:lnTo>
                        <a:pt x="47" y="156"/>
                      </a:lnTo>
                      <a:lnTo>
                        <a:pt x="47" y="140"/>
                      </a:lnTo>
                      <a:lnTo>
                        <a:pt x="25" y="144"/>
                      </a:lnTo>
                      <a:lnTo>
                        <a:pt x="16" y="144"/>
                      </a:lnTo>
                      <a:lnTo>
                        <a:pt x="0" y="144"/>
                      </a:lnTo>
                      <a:lnTo>
                        <a:pt x="22" y="119"/>
                      </a:lnTo>
                      <a:lnTo>
                        <a:pt x="30" y="105"/>
                      </a:lnTo>
                      <a:lnTo>
                        <a:pt x="38" y="105"/>
                      </a:lnTo>
                      <a:lnTo>
                        <a:pt x="54" y="85"/>
                      </a:lnTo>
                      <a:lnTo>
                        <a:pt x="60" y="85"/>
                      </a:lnTo>
                      <a:lnTo>
                        <a:pt x="60" y="83"/>
                      </a:lnTo>
                      <a:lnTo>
                        <a:pt x="68" y="77"/>
                      </a:lnTo>
                      <a:lnTo>
                        <a:pt x="76" y="77"/>
                      </a:lnTo>
                      <a:lnTo>
                        <a:pt x="74" y="55"/>
                      </a:lnTo>
                      <a:lnTo>
                        <a:pt x="75" y="55"/>
                      </a:lnTo>
                      <a:lnTo>
                        <a:pt x="84" y="41"/>
                      </a:lnTo>
                      <a:lnTo>
                        <a:pt x="89" y="51"/>
                      </a:lnTo>
                      <a:lnTo>
                        <a:pt x="104" y="35"/>
                      </a:lnTo>
                      <a:lnTo>
                        <a:pt x="103" y="0"/>
                      </a:lnTo>
                    </a:path>
                  </a:pathLst>
                </a:custGeom>
                <a:solidFill>
                  <a:srgbClr val="ffffff"/>
                </a:solidFill>
                <a:ln cap="rnd" w="9360">
                  <a:solidFill>
                    <a:srgbClr val="808080"/>
                  </a:solidFill>
                  <a:round/>
                </a:ln>
                <a:effectLst>
                  <a:outerShdw dist="71785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5104800" y="5901840"/>
                  <a:ext cx="89280" cy="146520"/>
                </a:xfrm>
                <a:custGeom>
                  <a:avLst/>
                  <a:gdLst/>
                  <a:ahLst/>
                  <a:rect l="l" t="t" r="r" b="b"/>
                  <a:pathLst>
                    <a:path w="56" h="85">
                      <a:moveTo>
                        <a:pt x="0" y="0"/>
                      </a:moveTo>
                      <a:lnTo>
                        <a:pt x="11" y="0"/>
                      </a:lnTo>
                      <a:lnTo>
                        <a:pt x="25" y="10"/>
                      </a:lnTo>
                      <a:lnTo>
                        <a:pt x="55" y="10"/>
                      </a:lnTo>
                      <a:lnTo>
                        <a:pt x="52" y="28"/>
                      </a:lnTo>
                      <a:lnTo>
                        <a:pt x="55" y="42"/>
                      </a:lnTo>
                      <a:lnTo>
                        <a:pt x="46" y="42"/>
                      </a:lnTo>
                      <a:lnTo>
                        <a:pt x="44" y="44"/>
                      </a:lnTo>
                      <a:lnTo>
                        <a:pt x="38" y="46"/>
                      </a:lnTo>
                      <a:lnTo>
                        <a:pt x="44" y="84"/>
                      </a:lnTo>
                      <a:lnTo>
                        <a:pt x="25" y="82"/>
                      </a:lnTo>
                      <a:lnTo>
                        <a:pt x="9" y="68"/>
                      </a:lnTo>
                      <a:lnTo>
                        <a:pt x="9" y="44"/>
                      </a:lnTo>
                      <a:lnTo>
                        <a:pt x="9" y="36"/>
                      </a:lnTo>
                      <a:lnTo>
                        <a:pt x="0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9360">
                  <a:solidFill>
                    <a:srgbClr val="808080"/>
                  </a:solidFill>
                  <a:round/>
                </a:ln>
                <a:effectLst>
                  <a:outerShdw dist="71785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" name=""/>
              <p:cNvSpPr/>
              <p:nvPr/>
            </p:nvSpPr>
            <p:spPr>
              <a:xfrm>
                <a:off x="5264280" y="4404240"/>
                <a:ext cx="148320" cy="151560"/>
              </a:xfrm>
              <a:custGeom>
                <a:avLst/>
                <a:gdLst/>
                <a:ahLst/>
                <a:rect l="l" t="t" r="r" b="b"/>
                <a:pathLst>
                  <a:path w="93" h="88">
                    <a:moveTo>
                      <a:pt x="16" y="32"/>
                    </a:moveTo>
                    <a:lnTo>
                      <a:pt x="0" y="69"/>
                    </a:lnTo>
                    <a:lnTo>
                      <a:pt x="5" y="85"/>
                    </a:lnTo>
                    <a:lnTo>
                      <a:pt x="32" y="87"/>
                    </a:lnTo>
                    <a:lnTo>
                      <a:pt x="54" y="87"/>
                    </a:lnTo>
                    <a:lnTo>
                      <a:pt x="62" y="71"/>
                    </a:lnTo>
                    <a:lnTo>
                      <a:pt x="68" y="57"/>
                    </a:lnTo>
                    <a:lnTo>
                      <a:pt x="92" y="57"/>
                    </a:lnTo>
                    <a:lnTo>
                      <a:pt x="89" y="34"/>
                    </a:lnTo>
                    <a:lnTo>
                      <a:pt x="89" y="12"/>
                    </a:lnTo>
                    <a:lnTo>
                      <a:pt x="63" y="0"/>
                    </a:lnTo>
                    <a:lnTo>
                      <a:pt x="60" y="24"/>
                    </a:lnTo>
                    <a:lnTo>
                      <a:pt x="76" y="40"/>
                    </a:lnTo>
                    <a:lnTo>
                      <a:pt x="52" y="40"/>
                    </a:lnTo>
                    <a:lnTo>
                      <a:pt x="44" y="49"/>
                    </a:lnTo>
                    <a:lnTo>
                      <a:pt x="16" y="32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808080"/>
                </a:solidFill>
                <a:round/>
              </a:ln>
              <a:effectLst>
                <a:outerShdw dist="71785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3651480" y="2097720"/>
                <a:ext cx="1724040" cy="3743640"/>
                <a:chOff x="3651480" y="2097720"/>
                <a:chExt cx="1724040" cy="3743640"/>
              </a:xfrm>
            </p:grpSpPr>
            <p:grpSp>
              <p:nvGrpSpPr>
                <p:cNvPr id="55" name=""/>
                <p:cNvGrpSpPr/>
                <p:nvPr/>
              </p:nvGrpSpPr>
              <p:grpSpPr>
                <a:xfrm>
                  <a:off x="3931920" y="2477160"/>
                  <a:ext cx="387360" cy="1127520"/>
                  <a:chOff x="3931920" y="2477160"/>
                  <a:chExt cx="387360" cy="1127520"/>
                </a:xfrm>
              </p:grpSpPr>
              <p:sp>
                <p:nvSpPr>
                  <p:cNvPr id="56" name=""/>
                  <p:cNvSpPr/>
                  <p:nvPr/>
                </p:nvSpPr>
                <p:spPr>
                  <a:xfrm>
                    <a:off x="3931920" y="3487680"/>
                    <a:ext cx="846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68">
                        <a:moveTo>
                          <a:pt x="0" y="53"/>
                        </a:moveTo>
                        <a:lnTo>
                          <a:pt x="10" y="65"/>
                        </a:lnTo>
                        <a:lnTo>
                          <a:pt x="21" y="63"/>
                        </a:lnTo>
                        <a:lnTo>
                          <a:pt x="37" y="67"/>
                        </a:lnTo>
                        <a:lnTo>
                          <a:pt x="51" y="67"/>
                        </a:lnTo>
                        <a:lnTo>
                          <a:pt x="52" y="45"/>
                        </a:lnTo>
                        <a:lnTo>
                          <a:pt x="48" y="28"/>
                        </a:lnTo>
                        <a:lnTo>
                          <a:pt x="39" y="10"/>
                        </a:lnTo>
                        <a:lnTo>
                          <a:pt x="30" y="10"/>
                        </a:lnTo>
                        <a:lnTo>
                          <a:pt x="26" y="0"/>
                        </a:lnTo>
                        <a:lnTo>
                          <a:pt x="13" y="0"/>
                        </a:lnTo>
                        <a:lnTo>
                          <a:pt x="13" y="20"/>
                        </a:lnTo>
                        <a:lnTo>
                          <a:pt x="0" y="53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9360">
                    <a:solidFill>
                      <a:srgbClr val="808080"/>
                    </a:solidFill>
                    <a:round/>
                  </a:ln>
                  <a:effectLst>
                    <a:outerShdw dist="71785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4174200" y="3292560"/>
                    <a:ext cx="8784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83">
                        <a:moveTo>
                          <a:pt x="13" y="0"/>
                        </a:moveTo>
                        <a:lnTo>
                          <a:pt x="37" y="1"/>
                        </a:lnTo>
                        <a:lnTo>
                          <a:pt x="44" y="23"/>
                        </a:lnTo>
                        <a:lnTo>
                          <a:pt x="54" y="37"/>
                        </a:lnTo>
                        <a:lnTo>
                          <a:pt x="46" y="46"/>
                        </a:lnTo>
                        <a:lnTo>
                          <a:pt x="54" y="58"/>
                        </a:lnTo>
                        <a:lnTo>
                          <a:pt x="51" y="74"/>
                        </a:lnTo>
                        <a:lnTo>
                          <a:pt x="43" y="82"/>
                        </a:lnTo>
                        <a:lnTo>
                          <a:pt x="27" y="78"/>
                        </a:lnTo>
                        <a:lnTo>
                          <a:pt x="16" y="78"/>
                        </a:lnTo>
                        <a:lnTo>
                          <a:pt x="10" y="68"/>
                        </a:lnTo>
                        <a:lnTo>
                          <a:pt x="5" y="56"/>
                        </a:lnTo>
                        <a:lnTo>
                          <a:pt x="5" y="44"/>
                        </a:lnTo>
                        <a:lnTo>
                          <a:pt x="0" y="27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9360">
                    <a:solidFill>
                      <a:srgbClr val="808080"/>
                    </a:solidFill>
                    <a:round/>
                  </a:ln>
                  <a:effectLst>
                    <a:outerShdw dist="71785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4158000" y="2477160"/>
                    <a:ext cx="16128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80">
                        <a:moveTo>
                          <a:pt x="15" y="0"/>
                        </a:moveTo>
                        <a:lnTo>
                          <a:pt x="26" y="12"/>
                        </a:lnTo>
                        <a:lnTo>
                          <a:pt x="39" y="10"/>
                        </a:lnTo>
                        <a:lnTo>
                          <a:pt x="57" y="12"/>
                        </a:lnTo>
                        <a:lnTo>
                          <a:pt x="74" y="12"/>
                        </a:lnTo>
                        <a:lnTo>
                          <a:pt x="84" y="20"/>
                        </a:lnTo>
                        <a:lnTo>
                          <a:pt x="93" y="38"/>
                        </a:lnTo>
                        <a:lnTo>
                          <a:pt x="100" y="47"/>
                        </a:lnTo>
                        <a:lnTo>
                          <a:pt x="77" y="51"/>
                        </a:lnTo>
                        <a:lnTo>
                          <a:pt x="70" y="57"/>
                        </a:lnTo>
                        <a:lnTo>
                          <a:pt x="77" y="67"/>
                        </a:lnTo>
                        <a:lnTo>
                          <a:pt x="77" y="77"/>
                        </a:lnTo>
                        <a:lnTo>
                          <a:pt x="54" y="67"/>
                        </a:lnTo>
                        <a:lnTo>
                          <a:pt x="34" y="59"/>
                        </a:lnTo>
                        <a:lnTo>
                          <a:pt x="26" y="61"/>
                        </a:lnTo>
                        <a:lnTo>
                          <a:pt x="26" y="77"/>
                        </a:lnTo>
                        <a:lnTo>
                          <a:pt x="15" y="79"/>
                        </a:lnTo>
                        <a:lnTo>
                          <a:pt x="8" y="67"/>
                        </a:lnTo>
                        <a:lnTo>
                          <a:pt x="5" y="51"/>
                        </a:lnTo>
                        <a:lnTo>
                          <a:pt x="0" y="49"/>
                        </a:lnTo>
                        <a:lnTo>
                          <a:pt x="5" y="32"/>
                        </a:lnTo>
                        <a:lnTo>
                          <a:pt x="16" y="28"/>
                        </a:lnTo>
                        <a:lnTo>
                          <a:pt x="15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9360">
                    <a:solidFill>
                      <a:srgbClr val="808080"/>
                    </a:solidFill>
                    <a:round/>
                  </a:ln>
                  <a:effectLst>
                    <a:outerShdw dist="71785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" name=""/>
                <p:cNvSpPr/>
                <p:nvPr/>
              </p:nvSpPr>
              <p:spPr>
                <a:xfrm>
                  <a:off x="4292640" y="4752720"/>
                  <a:ext cx="1082880" cy="1088640"/>
                </a:xfrm>
                <a:custGeom>
                  <a:avLst/>
                  <a:gdLst/>
                  <a:ahLst/>
                  <a:rect l="l" t="t" r="r" b="b"/>
                  <a:pathLst>
                    <a:path w="679" h="631">
                      <a:moveTo>
                        <a:pt x="486" y="0"/>
                      </a:moveTo>
                      <a:lnTo>
                        <a:pt x="523" y="0"/>
                      </a:lnTo>
                      <a:lnTo>
                        <a:pt x="523" y="48"/>
                      </a:lnTo>
                      <a:lnTo>
                        <a:pt x="537" y="64"/>
                      </a:lnTo>
                      <a:lnTo>
                        <a:pt x="540" y="72"/>
                      </a:lnTo>
                      <a:lnTo>
                        <a:pt x="548" y="72"/>
                      </a:lnTo>
                      <a:lnTo>
                        <a:pt x="553" y="82"/>
                      </a:lnTo>
                      <a:lnTo>
                        <a:pt x="556" y="132"/>
                      </a:lnTo>
                      <a:lnTo>
                        <a:pt x="577" y="166"/>
                      </a:lnTo>
                      <a:lnTo>
                        <a:pt x="607" y="214"/>
                      </a:lnTo>
                      <a:lnTo>
                        <a:pt x="607" y="222"/>
                      </a:lnTo>
                      <a:lnTo>
                        <a:pt x="640" y="261"/>
                      </a:lnTo>
                      <a:lnTo>
                        <a:pt x="640" y="269"/>
                      </a:lnTo>
                      <a:lnTo>
                        <a:pt x="672" y="301"/>
                      </a:lnTo>
                      <a:lnTo>
                        <a:pt x="678" y="360"/>
                      </a:lnTo>
                      <a:lnTo>
                        <a:pt x="672" y="411"/>
                      </a:lnTo>
                      <a:lnTo>
                        <a:pt x="662" y="437"/>
                      </a:lnTo>
                      <a:lnTo>
                        <a:pt x="650" y="449"/>
                      </a:lnTo>
                      <a:lnTo>
                        <a:pt x="645" y="476"/>
                      </a:lnTo>
                      <a:lnTo>
                        <a:pt x="634" y="499"/>
                      </a:lnTo>
                      <a:lnTo>
                        <a:pt x="623" y="509"/>
                      </a:lnTo>
                      <a:lnTo>
                        <a:pt x="626" y="517"/>
                      </a:lnTo>
                      <a:lnTo>
                        <a:pt x="613" y="531"/>
                      </a:lnTo>
                      <a:lnTo>
                        <a:pt x="607" y="565"/>
                      </a:lnTo>
                      <a:lnTo>
                        <a:pt x="605" y="583"/>
                      </a:lnTo>
                      <a:lnTo>
                        <a:pt x="593" y="588"/>
                      </a:lnTo>
                      <a:lnTo>
                        <a:pt x="591" y="596"/>
                      </a:lnTo>
                      <a:lnTo>
                        <a:pt x="583" y="612"/>
                      </a:lnTo>
                      <a:lnTo>
                        <a:pt x="569" y="614"/>
                      </a:lnTo>
                      <a:lnTo>
                        <a:pt x="559" y="620"/>
                      </a:lnTo>
                      <a:lnTo>
                        <a:pt x="545" y="630"/>
                      </a:lnTo>
                      <a:lnTo>
                        <a:pt x="526" y="610"/>
                      </a:lnTo>
                      <a:lnTo>
                        <a:pt x="507" y="612"/>
                      </a:lnTo>
                      <a:lnTo>
                        <a:pt x="501" y="612"/>
                      </a:lnTo>
                      <a:lnTo>
                        <a:pt x="472" y="616"/>
                      </a:lnTo>
                      <a:lnTo>
                        <a:pt x="455" y="596"/>
                      </a:lnTo>
                      <a:lnTo>
                        <a:pt x="442" y="577"/>
                      </a:lnTo>
                      <a:lnTo>
                        <a:pt x="434" y="579"/>
                      </a:lnTo>
                      <a:lnTo>
                        <a:pt x="426" y="561"/>
                      </a:lnTo>
                      <a:lnTo>
                        <a:pt x="422" y="547"/>
                      </a:lnTo>
                      <a:lnTo>
                        <a:pt x="418" y="541"/>
                      </a:lnTo>
                      <a:lnTo>
                        <a:pt x="418" y="517"/>
                      </a:lnTo>
                      <a:lnTo>
                        <a:pt x="420" y="501"/>
                      </a:lnTo>
                      <a:lnTo>
                        <a:pt x="415" y="492"/>
                      </a:lnTo>
                      <a:lnTo>
                        <a:pt x="399" y="495"/>
                      </a:lnTo>
                      <a:lnTo>
                        <a:pt x="392" y="499"/>
                      </a:lnTo>
                      <a:lnTo>
                        <a:pt x="377" y="499"/>
                      </a:lnTo>
                      <a:lnTo>
                        <a:pt x="371" y="499"/>
                      </a:lnTo>
                      <a:lnTo>
                        <a:pt x="366" y="499"/>
                      </a:lnTo>
                      <a:lnTo>
                        <a:pt x="355" y="484"/>
                      </a:lnTo>
                      <a:lnTo>
                        <a:pt x="346" y="463"/>
                      </a:lnTo>
                      <a:lnTo>
                        <a:pt x="344" y="465"/>
                      </a:lnTo>
                      <a:lnTo>
                        <a:pt x="326" y="465"/>
                      </a:lnTo>
                      <a:lnTo>
                        <a:pt x="324" y="457"/>
                      </a:lnTo>
                      <a:lnTo>
                        <a:pt x="313" y="465"/>
                      </a:lnTo>
                      <a:lnTo>
                        <a:pt x="304" y="463"/>
                      </a:lnTo>
                      <a:lnTo>
                        <a:pt x="288" y="463"/>
                      </a:lnTo>
                      <a:lnTo>
                        <a:pt x="277" y="457"/>
                      </a:lnTo>
                      <a:lnTo>
                        <a:pt x="274" y="465"/>
                      </a:lnTo>
                      <a:lnTo>
                        <a:pt x="258" y="467"/>
                      </a:lnTo>
                      <a:lnTo>
                        <a:pt x="253" y="463"/>
                      </a:lnTo>
                      <a:lnTo>
                        <a:pt x="244" y="476"/>
                      </a:lnTo>
                      <a:lnTo>
                        <a:pt x="231" y="490"/>
                      </a:lnTo>
                      <a:lnTo>
                        <a:pt x="223" y="490"/>
                      </a:lnTo>
                      <a:lnTo>
                        <a:pt x="211" y="503"/>
                      </a:lnTo>
                      <a:lnTo>
                        <a:pt x="193" y="503"/>
                      </a:lnTo>
                      <a:lnTo>
                        <a:pt x="179" y="509"/>
                      </a:lnTo>
                      <a:lnTo>
                        <a:pt x="163" y="517"/>
                      </a:lnTo>
                      <a:lnTo>
                        <a:pt x="155" y="527"/>
                      </a:lnTo>
                      <a:lnTo>
                        <a:pt x="149" y="523"/>
                      </a:lnTo>
                      <a:lnTo>
                        <a:pt x="142" y="533"/>
                      </a:lnTo>
                      <a:lnTo>
                        <a:pt x="135" y="537"/>
                      </a:lnTo>
                      <a:lnTo>
                        <a:pt x="125" y="549"/>
                      </a:lnTo>
                      <a:lnTo>
                        <a:pt x="92" y="549"/>
                      </a:lnTo>
                      <a:lnTo>
                        <a:pt x="78" y="531"/>
                      </a:lnTo>
                      <a:lnTo>
                        <a:pt x="76" y="523"/>
                      </a:lnTo>
                      <a:lnTo>
                        <a:pt x="73" y="531"/>
                      </a:lnTo>
                      <a:lnTo>
                        <a:pt x="66" y="519"/>
                      </a:lnTo>
                      <a:lnTo>
                        <a:pt x="68" y="486"/>
                      </a:lnTo>
                      <a:lnTo>
                        <a:pt x="73" y="465"/>
                      </a:lnTo>
                      <a:lnTo>
                        <a:pt x="66" y="449"/>
                      </a:lnTo>
                      <a:lnTo>
                        <a:pt x="60" y="435"/>
                      </a:lnTo>
                      <a:lnTo>
                        <a:pt x="59" y="417"/>
                      </a:lnTo>
                      <a:lnTo>
                        <a:pt x="47" y="409"/>
                      </a:lnTo>
                      <a:lnTo>
                        <a:pt x="46" y="407"/>
                      </a:lnTo>
                      <a:lnTo>
                        <a:pt x="44" y="400"/>
                      </a:lnTo>
                      <a:lnTo>
                        <a:pt x="30" y="378"/>
                      </a:lnTo>
                      <a:lnTo>
                        <a:pt x="11" y="322"/>
                      </a:lnTo>
                      <a:lnTo>
                        <a:pt x="6" y="283"/>
                      </a:lnTo>
                      <a:lnTo>
                        <a:pt x="6" y="261"/>
                      </a:lnTo>
                      <a:lnTo>
                        <a:pt x="0" y="253"/>
                      </a:lnTo>
                      <a:lnTo>
                        <a:pt x="2" y="233"/>
                      </a:lnTo>
                      <a:lnTo>
                        <a:pt x="8" y="224"/>
                      </a:lnTo>
                      <a:lnTo>
                        <a:pt x="30" y="196"/>
                      </a:lnTo>
                      <a:lnTo>
                        <a:pt x="52" y="198"/>
                      </a:lnTo>
                      <a:lnTo>
                        <a:pt x="55" y="204"/>
                      </a:lnTo>
                      <a:lnTo>
                        <a:pt x="84" y="204"/>
                      </a:lnTo>
                      <a:lnTo>
                        <a:pt x="87" y="196"/>
                      </a:lnTo>
                      <a:lnTo>
                        <a:pt x="92" y="198"/>
                      </a:lnTo>
                      <a:lnTo>
                        <a:pt x="100" y="190"/>
                      </a:lnTo>
                      <a:lnTo>
                        <a:pt x="106" y="194"/>
                      </a:lnTo>
                      <a:lnTo>
                        <a:pt x="112" y="188"/>
                      </a:lnTo>
                      <a:lnTo>
                        <a:pt x="111" y="180"/>
                      </a:lnTo>
                      <a:lnTo>
                        <a:pt x="117" y="162"/>
                      </a:lnTo>
                      <a:lnTo>
                        <a:pt x="125" y="155"/>
                      </a:lnTo>
                      <a:lnTo>
                        <a:pt x="120" y="149"/>
                      </a:lnTo>
                      <a:lnTo>
                        <a:pt x="125" y="143"/>
                      </a:lnTo>
                      <a:lnTo>
                        <a:pt x="120" y="137"/>
                      </a:lnTo>
                      <a:lnTo>
                        <a:pt x="133" y="124"/>
                      </a:lnTo>
                      <a:lnTo>
                        <a:pt x="150" y="122"/>
                      </a:lnTo>
                      <a:lnTo>
                        <a:pt x="169" y="92"/>
                      </a:lnTo>
                      <a:lnTo>
                        <a:pt x="192" y="66"/>
                      </a:lnTo>
                      <a:lnTo>
                        <a:pt x="201" y="64"/>
                      </a:lnTo>
                      <a:lnTo>
                        <a:pt x="207" y="56"/>
                      </a:lnTo>
                      <a:lnTo>
                        <a:pt x="217" y="56"/>
                      </a:lnTo>
                      <a:lnTo>
                        <a:pt x="236" y="78"/>
                      </a:lnTo>
                      <a:lnTo>
                        <a:pt x="242" y="82"/>
                      </a:lnTo>
                      <a:lnTo>
                        <a:pt x="247" y="72"/>
                      </a:lnTo>
                      <a:lnTo>
                        <a:pt x="260" y="56"/>
                      </a:lnTo>
                      <a:lnTo>
                        <a:pt x="267" y="54"/>
                      </a:lnTo>
                      <a:lnTo>
                        <a:pt x="275" y="33"/>
                      </a:lnTo>
                      <a:lnTo>
                        <a:pt x="283" y="31"/>
                      </a:lnTo>
                      <a:lnTo>
                        <a:pt x="294" y="23"/>
                      </a:lnTo>
                      <a:lnTo>
                        <a:pt x="304" y="17"/>
                      </a:lnTo>
                      <a:lnTo>
                        <a:pt x="313" y="17"/>
                      </a:lnTo>
                      <a:lnTo>
                        <a:pt x="323" y="5"/>
                      </a:lnTo>
                      <a:lnTo>
                        <a:pt x="334" y="5"/>
                      </a:lnTo>
                      <a:lnTo>
                        <a:pt x="347" y="5"/>
                      </a:lnTo>
                      <a:lnTo>
                        <a:pt x="366" y="11"/>
                      </a:lnTo>
                      <a:lnTo>
                        <a:pt x="377" y="21"/>
                      </a:lnTo>
                      <a:lnTo>
                        <a:pt x="379" y="29"/>
                      </a:lnTo>
                      <a:lnTo>
                        <a:pt x="382" y="33"/>
                      </a:lnTo>
                      <a:lnTo>
                        <a:pt x="384" y="46"/>
                      </a:lnTo>
                      <a:lnTo>
                        <a:pt x="382" y="50"/>
                      </a:lnTo>
                      <a:lnTo>
                        <a:pt x="382" y="64"/>
                      </a:lnTo>
                      <a:lnTo>
                        <a:pt x="379" y="72"/>
                      </a:lnTo>
                      <a:lnTo>
                        <a:pt x="411" y="100"/>
                      </a:lnTo>
                      <a:lnTo>
                        <a:pt x="420" y="114"/>
                      </a:lnTo>
                      <a:lnTo>
                        <a:pt x="433" y="120"/>
                      </a:lnTo>
                      <a:lnTo>
                        <a:pt x="444" y="128"/>
                      </a:lnTo>
                      <a:lnTo>
                        <a:pt x="452" y="130"/>
                      </a:lnTo>
                      <a:lnTo>
                        <a:pt x="464" y="122"/>
                      </a:lnTo>
                      <a:lnTo>
                        <a:pt x="474" y="100"/>
                      </a:lnTo>
                      <a:lnTo>
                        <a:pt x="479" y="82"/>
                      </a:lnTo>
                      <a:lnTo>
                        <a:pt x="482" y="46"/>
                      </a:lnTo>
                      <a:lnTo>
                        <a:pt x="486" y="31"/>
                      </a:lnTo>
                      <a:lnTo>
                        <a:pt x="486" y="0"/>
                      </a:lnTo>
                    </a:path>
                  </a:pathLst>
                </a:custGeom>
                <a:solidFill>
                  <a:srgbClr val="ffffff"/>
                </a:solidFill>
                <a:ln cap="rnd" w="9360">
                  <a:solidFill>
                    <a:srgbClr val="808080"/>
                  </a:solidFill>
                  <a:round/>
                </a:ln>
                <a:effectLst>
                  <a:outerShdw dist="71785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4032720" y="4521240"/>
                  <a:ext cx="604440" cy="146520"/>
                </a:xfrm>
                <a:custGeom>
                  <a:avLst/>
                  <a:gdLst/>
                  <a:ahLst/>
                  <a:rect l="l" t="t" r="r" b="b"/>
                  <a:pathLst>
                    <a:path w="379" h="85">
                      <a:moveTo>
                        <a:pt x="0" y="0"/>
                      </a:moveTo>
                      <a:lnTo>
                        <a:pt x="29" y="14"/>
                      </a:lnTo>
                      <a:lnTo>
                        <a:pt x="53" y="14"/>
                      </a:lnTo>
                      <a:lnTo>
                        <a:pt x="75" y="14"/>
                      </a:lnTo>
                      <a:lnTo>
                        <a:pt x="93" y="14"/>
                      </a:lnTo>
                      <a:lnTo>
                        <a:pt x="104" y="16"/>
                      </a:lnTo>
                      <a:lnTo>
                        <a:pt x="120" y="23"/>
                      </a:lnTo>
                      <a:lnTo>
                        <a:pt x="128" y="41"/>
                      </a:lnTo>
                      <a:lnTo>
                        <a:pt x="137" y="47"/>
                      </a:lnTo>
                      <a:lnTo>
                        <a:pt x="150" y="45"/>
                      </a:lnTo>
                      <a:lnTo>
                        <a:pt x="167" y="45"/>
                      </a:lnTo>
                      <a:lnTo>
                        <a:pt x="185" y="55"/>
                      </a:lnTo>
                      <a:lnTo>
                        <a:pt x="198" y="61"/>
                      </a:lnTo>
                      <a:lnTo>
                        <a:pt x="206" y="61"/>
                      </a:lnTo>
                      <a:lnTo>
                        <a:pt x="207" y="47"/>
                      </a:lnTo>
                      <a:lnTo>
                        <a:pt x="214" y="41"/>
                      </a:lnTo>
                      <a:lnTo>
                        <a:pt x="238" y="45"/>
                      </a:lnTo>
                      <a:lnTo>
                        <a:pt x="258" y="45"/>
                      </a:lnTo>
                      <a:lnTo>
                        <a:pt x="276" y="45"/>
                      </a:lnTo>
                      <a:lnTo>
                        <a:pt x="290" y="53"/>
                      </a:lnTo>
                      <a:lnTo>
                        <a:pt x="298" y="57"/>
                      </a:lnTo>
                      <a:lnTo>
                        <a:pt x="313" y="55"/>
                      </a:lnTo>
                      <a:lnTo>
                        <a:pt x="324" y="51"/>
                      </a:lnTo>
                      <a:lnTo>
                        <a:pt x="329" y="45"/>
                      </a:lnTo>
                      <a:lnTo>
                        <a:pt x="346" y="45"/>
                      </a:lnTo>
                      <a:lnTo>
                        <a:pt x="356" y="41"/>
                      </a:lnTo>
                      <a:lnTo>
                        <a:pt x="370" y="35"/>
                      </a:lnTo>
                      <a:lnTo>
                        <a:pt x="378" y="35"/>
                      </a:lnTo>
                      <a:lnTo>
                        <a:pt x="376" y="53"/>
                      </a:lnTo>
                      <a:lnTo>
                        <a:pt x="372" y="61"/>
                      </a:lnTo>
                      <a:lnTo>
                        <a:pt x="364" y="68"/>
                      </a:lnTo>
                      <a:lnTo>
                        <a:pt x="356" y="68"/>
                      </a:lnTo>
                      <a:lnTo>
                        <a:pt x="354" y="68"/>
                      </a:lnTo>
                      <a:lnTo>
                        <a:pt x="343" y="70"/>
                      </a:lnTo>
                      <a:lnTo>
                        <a:pt x="335" y="80"/>
                      </a:lnTo>
                      <a:lnTo>
                        <a:pt x="327" y="78"/>
                      </a:lnTo>
                      <a:lnTo>
                        <a:pt x="319" y="72"/>
                      </a:lnTo>
                      <a:lnTo>
                        <a:pt x="311" y="78"/>
                      </a:lnTo>
                      <a:lnTo>
                        <a:pt x="303" y="80"/>
                      </a:lnTo>
                      <a:lnTo>
                        <a:pt x="297" y="80"/>
                      </a:lnTo>
                      <a:lnTo>
                        <a:pt x="290" y="84"/>
                      </a:lnTo>
                      <a:lnTo>
                        <a:pt x="274" y="84"/>
                      </a:lnTo>
                      <a:lnTo>
                        <a:pt x="268" y="78"/>
                      </a:lnTo>
                      <a:lnTo>
                        <a:pt x="260" y="68"/>
                      </a:lnTo>
                      <a:lnTo>
                        <a:pt x="250" y="78"/>
                      </a:lnTo>
                      <a:lnTo>
                        <a:pt x="244" y="84"/>
                      </a:lnTo>
                      <a:lnTo>
                        <a:pt x="236" y="84"/>
                      </a:lnTo>
                      <a:lnTo>
                        <a:pt x="222" y="68"/>
                      </a:lnTo>
                      <a:lnTo>
                        <a:pt x="217" y="70"/>
                      </a:lnTo>
                      <a:lnTo>
                        <a:pt x="209" y="70"/>
                      </a:lnTo>
                      <a:lnTo>
                        <a:pt x="204" y="80"/>
                      </a:lnTo>
                      <a:lnTo>
                        <a:pt x="191" y="78"/>
                      </a:lnTo>
                      <a:lnTo>
                        <a:pt x="179" y="78"/>
                      </a:lnTo>
                      <a:lnTo>
                        <a:pt x="172" y="72"/>
                      </a:lnTo>
                      <a:lnTo>
                        <a:pt x="164" y="68"/>
                      </a:lnTo>
                      <a:lnTo>
                        <a:pt x="153" y="70"/>
                      </a:lnTo>
                      <a:lnTo>
                        <a:pt x="140" y="80"/>
                      </a:lnTo>
                      <a:lnTo>
                        <a:pt x="132" y="78"/>
                      </a:lnTo>
                      <a:lnTo>
                        <a:pt x="120" y="72"/>
                      </a:lnTo>
                      <a:lnTo>
                        <a:pt x="105" y="64"/>
                      </a:lnTo>
                      <a:lnTo>
                        <a:pt x="94" y="64"/>
                      </a:lnTo>
                      <a:lnTo>
                        <a:pt x="70" y="57"/>
                      </a:lnTo>
                      <a:lnTo>
                        <a:pt x="53" y="53"/>
                      </a:lnTo>
                      <a:lnTo>
                        <a:pt x="43" y="51"/>
                      </a:lnTo>
                      <a:lnTo>
                        <a:pt x="27" y="47"/>
                      </a:lnTo>
                      <a:lnTo>
                        <a:pt x="16" y="37"/>
                      </a:lnTo>
                      <a:lnTo>
                        <a:pt x="6" y="35"/>
                      </a:lnTo>
                      <a:lnTo>
                        <a:pt x="3" y="33"/>
                      </a:lnTo>
                      <a:lnTo>
                        <a:pt x="0" y="2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9360">
                  <a:solidFill>
                    <a:srgbClr val="808080"/>
                  </a:solidFill>
                  <a:round/>
                </a:ln>
                <a:effectLst>
                  <a:outerShdw dist="71785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362840" y="4230000"/>
                  <a:ext cx="273960" cy="287640"/>
                </a:xfrm>
                <a:custGeom>
                  <a:avLst/>
                  <a:gdLst/>
                  <a:ahLst/>
                  <a:rect l="l" t="t" r="r" b="b"/>
                  <a:pathLst>
                    <a:path w="172" h="167">
                      <a:moveTo>
                        <a:pt x="43" y="0"/>
                      </a:moveTo>
                      <a:lnTo>
                        <a:pt x="83" y="2"/>
                      </a:lnTo>
                      <a:lnTo>
                        <a:pt x="122" y="2"/>
                      </a:lnTo>
                      <a:lnTo>
                        <a:pt x="142" y="0"/>
                      </a:lnTo>
                      <a:lnTo>
                        <a:pt x="171" y="16"/>
                      </a:lnTo>
                      <a:lnTo>
                        <a:pt x="154" y="20"/>
                      </a:lnTo>
                      <a:lnTo>
                        <a:pt x="142" y="28"/>
                      </a:lnTo>
                      <a:lnTo>
                        <a:pt x="136" y="32"/>
                      </a:lnTo>
                      <a:lnTo>
                        <a:pt x="133" y="38"/>
                      </a:lnTo>
                      <a:lnTo>
                        <a:pt x="133" y="44"/>
                      </a:lnTo>
                      <a:lnTo>
                        <a:pt x="133" y="50"/>
                      </a:lnTo>
                      <a:lnTo>
                        <a:pt x="120" y="56"/>
                      </a:lnTo>
                      <a:lnTo>
                        <a:pt x="111" y="56"/>
                      </a:lnTo>
                      <a:lnTo>
                        <a:pt x="106" y="58"/>
                      </a:lnTo>
                      <a:lnTo>
                        <a:pt x="96" y="58"/>
                      </a:lnTo>
                      <a:lnTo>
                        <a:pt x="92" y="50"/>
                      </a:lnTo>
                      <a:lnTo>
                        <a:pt x="83" y="40"/>
                      </a:lnTo>
                      <a:lnTo>
                        <a:pt x="75" y="32"/>
                      </a:lnTo>
                      <a:lnTo>
                        <a:pt x="59" y="32"/>
                      </a:lnTo>
                      <a:lnTo>
                        <a:pt x="54" y="32"/>
                      </a:lnTo>
                      <a:lnTo>
                        <a:pt x="51" y="46"/>
                      </a:lnTo>
                      <a:lnTo>
                        <a:pt x="52" y="58"/>
                      </a:lnTo>
                      <a:lnTo>
                        <a:pt x="52" y="66"/>
                      </a:lnTo>
                      <a:lnTo>
                        <a:pt x="54" y="74"/>
                      </a:lnTo>
                      <a:lnTo>
                        <a:pt x="64" y="72"/>
                      </a:lnTo>
                      <a:lnTo>
                        <a:pt x="75" y="64"/>
                      </a:lnTo>
                      <a:lnTo>
                        <a:pt x="83" y="64"/>
                      </a:lnTo>
                      <a:lnTo>
                        <a:pt x="90" y="68"/>
                      </a:lnTo>
                      <a:lnTo>
                        <a:pt x="90" y="74"/>
                      </a:lnTo>
                      <a:lnTo>
                        <a:pt x="87" y="84"/>
                      </a:lnTo>
                      <a:lnTo>
                        <a:pt x="83" y="88"/>
                      </a:lnTo>
                      <a:lnTo>
                        <a:pt x="83" y="94"/>
                      </a:lnTo>
                      <a:lnTo>
                        <a:pt x="81" y="102"/>
                      </a:lnTo>
                      <a:lnTo>
                        <a:pt x="87" y="110"/>
                      </a:lnTo>
                      <a:lnTo>
                        <a:pt x="95" y="120"/>
                      </a:lnTo>
                      <a:lnTo>
                        <a:pt x="96" y="116"/>
                      </a:lnTo>
                      <a:lnTo>
                        <a:pt x="96" y="128"/>
                      </a:lnTo>
                      <a:lnTo>
                        <a:pt x="92" y="134"/>
                      </a:lnTo>
                      <a:lnTo>
                        <a:pt x="88" y="142"/>
                      </a:lnTo>
                      <a:lnTo>
                        <a:pt x="87" y="156"/>
                      </a:lnTo>
                      <a:lnTo>
                        <a:pt x="76" y="160"/>
                      </a:lnTo>
                      <a:lnTo>
                        <a:pt x="71" y="160"/>
                      </a:lnTo>
                      <a:lnTo>
                        <a:pt x="65" y="160"/>
                      </a:lnTo>
                      <a:lnTo>
                        <a:pt x="65" y="150"/>
                      </a:lnTo>
                      <a:lnTo>
                        <a:pt x="64" y="132"/>
                      </a:lnTo>
                      <a:lnTo>
                        <a:pt x="57" y="128"/>
                      </a:lnTo>
                      <a:lnTo>
                        <a:pt x="54" y="120"/>
                      </a:lnTo>
                      <a:lnTo>
                        <a:pt x="57" y="104"/>
                      </a:lnTo>
                      <a:lnTo>
                        <a:pt x="51" y="100"/>
                      </a:lnTo>
                      <a:lnTo>
                        <a:pt x="37" y="104"/>
                      </a:lnTo>
                      <a:lnTo>
                        <a:pt x="30" y="100"/>
                      </a:lnTo>
                      <a:lnTo>
                        <a:pt x="24" y="106"/>
                      </a:lnTo>
                      <a:lnTo>
                        <a:pt x="30" y="112"/>
                      </a:lnTo>
                      <a:lnTo>
                        <a:pt x="41" y="116"/>
                      </a:lnTo>
                      <a:lnTo>
                        <a:pt x="43" y="122"/>
                      </a:lnTo>
                      <a:lnTo>
                        <a:pt x="49" y="132"/>
                      </a:lnTo>
                      <a:lnTo>
                        <a:pt x="49" y="140"/>
                      </a:lnTo>
                      <a:lnTo>
                        <a:pt x="43" y="152"/>
                      </a:lnTo>
                      <a:lnTo>
                        <a:pt x="35" y="162"/>
                      </a:lnTo>
                      <a:lnTo>
                        <a:pt x="30" y="166"/>
                      </a:lnTo>
                      <a:lnTo>
                        <a:pt x="30" y="158"/>
                      </a:lnTo>
                      <a:lnTo>
                        <a:pt x="30" y="150"/>
                      </a:lnTo>
                      <a:lnTo>
                        <a:pt x="32" y="140"/>
                      </a:lnTo>
                      <a:lnTo>
                        <a:pt x="22" y="132"/>
                      </a:lnTo>
                      <a:lnTo>
                        <a:pt x="13" y="124"/>
                      </a:lnTo>
                      <a:lnTo>
                        <a:pt x="10" y="116"/>
                      </a:lnTo>
                      <a:lnTo>
                        <a:pt x="0" y="112"/>
                      </a:lnTo>
                      <a:lnTo>
                        <a:pt x="2" y="100"/>
                      </a:lnTo>
                      <a:lnTo>
                        <a:pt x="10" y="92"/>
                      </a:lnTo>
                      <a:lnTo>
                        <a:pt x="16" y="78"/>
                      </a:lnTo>
                      <a:lnTo>
                        <a:pt x="22" y="66"/>
                      </a:lnTo>
                      <a:lnTo>
                        <a:pt x="24" y="54"/>
                      </a:lnTo>
                      <a:lnTo>
                        <a:pt x="22" y="40"/>
                      </a:lnTo>
                      <a:lnTo>
                        <a:pt x="27" y="36"/>
                      </a:lnTo>
                      <a:lnTo>
                        <a:pt x="30" y="30"/>
                      </a:lnTo>
                      <a:lnTo>
                        <a:pt x="24" y="20"/>
                      </a:lnTo>
                      <a:lnTo>
                        <a:pt x="43" y="0"/>
                      </a:lnTo>
                    </a:path>
                  </a:pathLst>
                </a:custGeom>
                <a:solidFill>
                  <a:srgbClr val="ffffff"/>
                </a:solidFill>
                <a:ln cap="rnd" w="9360">
                  <a:solidFill>
                    <a:srgbClr val="808080"/>
                  </a:solidFill>
                  <a:round/>
                </a:ln>
                <a:effectLst>
                  <a:outerShdw dist="71785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4078800" y="4105440"/>
                  <a:ext cx="301320" cy="391320"/>
                </a:xfrm>
                <a:custGeom>
                  <a:avLst/>
                  <a:gdLst/>
                  <a:ahLst/>
                  <a:rect l="l" t="t" r="r" b="b"/>
                  <a:pathLst>
                    <a:path w="189" h="227">
                      <a:moveTo>
                        <a:pt x="0" y="74"/>
                      </a:moveTo>
                      <a:lnTo>
                        <a:pt x="38" y="38"/>
                      </a:lnTo>
                      <a:lnTo>
                        <a:pt x="59" y="25"/>
                      </a:lnTo>
                      <a:lnTo>
                        <a:pt x="68" y="11"/>
                      </a:lnTo>
                      <a:lnTo>
                        <a:pt x="99" y="0"/>
                      </a:lnTo>
                      <a:lnTo>
                        <a:pt x="115" y="27"/>
                      </a:lnTo>
                      <a:lnTo>
                        <a:pt x="133" y="15"/>
                      </a:lnTo>
                      <a:lnTo>
                        <a:pt x="137" y="7"/>
                      </a:lnTo>
                      <a:lnTo>
                        <a:pt x="152" y="0"/>
                      </a:lnTo>
                      <a:lnTo>
                        <a:pt x="159" y="0"/>
                      </a:lnTo>
                      <a:lnTo>
                        <a:pt x="163" y="9"/>
                      </a:lnTo>
                      <a:lnTo>
                        <a:pt x="163" y="17"/>
                      </a:lnTo>
                      <a:lnTo>
                        <a:pt x="155" y="29"/>
                      </a:lnTo>
                      <a:lnTo>
                        <a:pt x="155" y="37"/>
                      </a:lnTo>
                      <a:lnTo>
                        <a:pt x="177" y="70"/>
                      </a:lnTo>
                      <a:lnTo>
                        <a:pt x="180" y="90"/>
                      </a:lnTo>
                      <a:lnTo>
                        <a:pt x="186" y="90"/>
                      </a:lnTo>
                      <a:lnTo>
                        <a:pt x="188" y="100"/>
                      </a:lnTo>
                      <a:lnTo>
                        <a:pt x="180" y="110"/>
                      </a:lnTo>
                      <a:lnTo>
                        <a:pt x="174" y="104"/>
                      </a:lnTo>
                      <a:lnTo>
                        <a:pt x="159" y="112"/>
                      </a:lnTo>
                      <a:lnTo>
                        <a:pt x="163" y="131"/>
                      </a:lnTo>
                      <a:lnTo>
                        <a:pt x="145" y="145"/>
                      </a:lnTo>
                      <a:lnTo>
                        <a:pt x="145" y="177"/>
                      </a:lnTo>
                      <a:lnTo>
                        <a:pt x="145" y="200"/>
                      </a:lnTo>
                      <a:lnTo>
                        <a:pt x="137" y="210"/>
                      </a:lnTo>
                      <a:lnTo>
                        <a:pt x="133" y="226"/>
                      </a:lnTo>
                      <a:lnTo>
                        <a:pt x="123" y="222"/>
                      </a:lnTo>
                      <a:lnTo>
                        <a:pt x="112" y="214"/>
                      </a:lnTo>
                      <a:lnTo>
                        <a:pt x="101" y="208"/>
                      </a:lnTo>
                      <a:lnTo>
                        <a:pt x="92" y="194"/>
                      </a:lnTo>
                      <a:lnTo>
                        <a:pt x="65" y="198"/>
                      </a:lnTo>
                      <a:lnTo>
                        <a:pt x="40" y="190"/>
                      </a:lnTo>
                      <a:lnTo>
                        <a:pt x="24" y="171"/>
                      </a:lnTo>
                      <a:lnTo>
                        <a:pt x="14" y="155"/>
                      </a:lnTo>
                      <a:lnTo>
                        <a:pt x="6" y="143"/>
                      </a:lnTo>
                      <a:lnTo>
                        <a:pt x="6" y="117"/>
                      </a:lnTo>
                      <a:lnTo>
                        <a:pt x="0" y="74"/>
                      </a:lnTo>
                    </a:path>
                  </a:pathLst>
                </a:custGeom>
                <a:solidFill>
                  <a:srgbClr val="ffffff"/>
                </a:solidFill>
                <a:ln cap="rnd" w="9360">
                  <a:solidFill>
                    <a:srgbClr val="808080"/>
                  </a:solidFill>
                  <a:round/>
                </a:ln>
                <a:effectLst>
                  <a:outerShdw dist="71785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4715280" y="4328280"/>
                  <a:ext cx="575640" cy="362160"/>
                </a:xfrm>
                <a:custGeom>
                  <a:avLst/>
                  <a:gdLst/>
                  <a:ahLst/>
                  <a:rect l="l" t="t" r="r" b="b"/>
                  <a:pathLst>
                    <a:path w="361" h="210">
                      <a:moveTo>
                        <a:pt x="0" y="0"/>
                      </a:moveTo>
                      <a:lnTo>
                        <a:pt x="32" y="2"/>
                      </a:lnTo>
                      <a:lnTo>
                        <a:pt x="59" y="4"/>
                      </a:lnTo>
                      <a:lnTo>
                        <a:pt x="70" y="35"/>
                      </a:lnTo>
                      <a:lnTo>
                        <a:pt x="73" y="45"/>
                      </a:lnTo>
                      <a:lnTo>
                        <a:pt x="76" y="49"/>
                      </a:lnTo>
                      <a:lnTo>
                        <a:pt x="84" y="43"/>
                      </a:lnTo>
                      <a:lnTo>
                        <a:pt x="98" y="43"/>
                      </a:lnTo>
                      <a:lnTo>
                        <a:pt x="106" y="49"/>
                      </a:lnTo>
                      <a:lnTo>
                        <a:pt x="111" y="47"/>
                      </a:lnTo>
                      <a:lnTo>
                        <a:pt x="124" y="35"/>
                      </a:lnTo>
                      <a:lnTo>
                        <a:pt x="125" y="35"/>
                      </a:lnTo>
                      <a:lnTo>
                        <a:pt x="135" y="28"/>
                      </a:lnTo>
                      <a:lnTo>
                        <a:pt x="146" y="28"/>
                      </a:lnTo>
                      <a:lnTo>
                        <a:pt x="178" y="43"/>
                      </a:lnTo>
                      <a:lnTo>
                        <a:pt x="193" y="43"/>
                      </a:lnTo>
                      <a:lnTo>
                        <a:pt x="208" y="54"/>
                      </a:lnTo>
                      <a:lnTo>
                        <a:pt x="222" y="58"/>
                      </a:lnTo>
                      <a:lnTo>
                        <a:pt x="233" y="70"/>
                      </a:lnTo>
                      <a:lnTo>
                        <a:pt x="244" y="72"/>
                      </a:lnTo>
                      <a:lnTo>
                        <a:pt x="269" y="82"/>
                      </a:lnTo>
                      <a:lnTo>
                        <a:pt x="282" y="100"/>
                      </a:lnTo>
                      <a:lnTo>
                        <a:pt x="289" y="109"/>
                      </a:lnTo>
                      <a:lnTo>
                        <a:pt x="285" y="113"/>
                      </a:lnTo>
                      <a:lnTo>
                        <a:pt x="296" y="125"/>
                      </a:lnTo>
                      <a:lnTo>
                        <a:pt x="304" y="127"/>
                      </a:lnTo>
                      <a:lnTo>
                        <a:pt x="308" y="129"/>
                      </a:lnTo>
                      <a:lnTo>
                        <a:pt x="319" y="131"/>
                      </a:lnTo>
                      <a:lnTo>
                        <a:pt x="335" y="147"/>
                      </a:lnTo>
                      <a:lnTo>
                        <a:pt x="335" y="157"/>
                      </a:lnTo>
                      <a:lnTo>
                        <a:pt x="344" y="166"/>
                      </a:lnTo>
                      <a:lnTo>
                        <a:pt x="347" y="172"/>
                      </a:lnTo>
                      <a:lnTo>
                        <a:pt x="360" y="191"/>
                      </a:lnTo>
                      <a:lnTo>
                        <a:pt x="349" y="209"/>
                      </a:lnTo>
                      <a:lnTo>
                        <a:pt x="344" y="209"/>
                      </a:lnTo>
                      <a:lnTo>
                        <a:pt x="333" y="209"/>
                      </a:lnTo>
                      <a:lnTo>
                        <a:pt x="328" y="201"/>
                      </a:lnTo>
                      <a:lnTo>
                        <a:pt x="322" y="201"/>
                      </a:lnTo>
                      <a:lnTo>
                        <a:pt x="316" y="203"/>
                      </a:lnTo>
                      <a:lnTo>
                        <a:pt x="285" y="164"/>
                      </a:lnTo>
                      <a:lnTo>
                        <a:pt x="268" y="166"/>
                      </a:lnTo>
                      <a:lnTo>
                        <a:pt x="249" y="164"/>
                      </a:lnTo>
                      <a:lnTo>
                        <a:pt x="244" y="168"/>
                      </a:lnTo>
                      <a:lnTo>
                        <a:pt x="238" y="175"/>
                      </a:lnTo>
                      <a:lnTo>
                        <a:pt x="236" y="172"/>
                      </a:lnTo>
                      <a:lnTo>
                        <a:pt x="227" y="183"/>
                      </a:lnTo>
                      <a:lnTo>
                        <a:pt x="215" y="201"/>
                      </a:lnTo>
                      <a:lnTo>
                        <a:pt x="204" y="193"/>
                      </a:lnTo>
                      <a:lnTo>
                        <a:pt x="193" y="189"/>
                      </a:lnTo>
                      <a:lnTo>
                        <a:pt x="185" y="189"/>
                      </a:lnTo>
                      <a:lnTo>
                        <a:pt x="172" y="183"/>
                      </a:lnTo>
                      <a:lnTo>
                        <a:pt x="165" y="189"/>
                      </a:lnTo>
                      <a:lnTo>
                        <a:pt x="157" y="164"/>
                      </a:lnTo>
                      <a:lnTo>
                        <a:pt x="143" y="141"/>
                      </a:lnTo>
                      <a:lnTo>
                        <a:pt x="129" y="113"/>
                      </a:lnTo>
                      <a:lnTo>
                        <a:pt x="118" y="100"/>
                      </a:lnTo>
                      <a:lnTo>
                        <a:pt x="106" y="84"/>
                      </a:lnTo>
                      <a:lnTo>
                        <a:pt x="84" y="84"/>
                      </a:lnTo>
                      <a:lnTo>
                        <a:pt x="65" y="92"/>
                      </a:lnTo>
                      <a:lnTo>
                        <a:pt x="54" y="82"/>
                      </a:lnTo>
                      <a:lnTo>
                        <a:pt x="33" y="74"/>
                      </a:lnTo>
                      <a:lnTo>
                        <a:pt x="24" y="66"/>
                      </a:lnTo>
                      <a:lnTo>
                        <a:pt x="24" y="37"/>
                      </a:lnTo>
                      <a:lnTo>
                        <a:pt x="25" y="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9360">
                  <a:solidFill>
                    <a:srgbClr val="808080"/>
                  </a:solidFill>
                  <a:round/>
                </a:ln>
                <a:effectLst>
                  <a:outerShdw dist="71785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3651480" y="4067640"/>
                  <a:ext cx="352080" cy="479520"/>
                </a:xfrm>
                <a:custGeom>
                  <a:avLst/>
                  <a:gdLst/>
                  <a:ahLst/>
                  <a:rect l="l" t="t" r="r" b="b"/>
                  <a:pathLst>
                    <a:path w="221" h="278">
                      <a:moveTo>
                        <a:pt x="0" y="6"/>
                      </a:moveTo>
                      <a:lnTo>
                        <a:pt x="22" y="0"/>
                      </a:lnTo>
                      <a:lnTo>
                        <a:pt x="48" y="12"/>
                      </a:lnTo>
                      <a:lnTo>
                        <a:pt x="53" y="23"/>
                      </a:lnTo>
                      <a:lnTo>
                        <a:pt x="53" y="29"/>
                      </a:lnTo>
                      <a:lnTo>
                        <a:pt x="59" y="31"/>
                      </a:lnTo>
                      <a:lnTo>
                        <a:pt x="59" y="37"/>
                      </a:lnTo>
                      <a:lnTo>
                        <a:pt x="67" y="39"/>
                      </a:lnTo>
                      <a:lnTo>
                        <a:pt x="67" y="49"/>
                      </a:lnTo>
                      <a:lnTo>
                        <a:pt x="93" y="78"/>
                      </a:lnTo>
                      <a:lnTo>
                        <a:pt x="98" y="78"/>
                      </a:lnTo>
                      <a:lnTo>
                        <a:pt x="101" y="86"/>
                      </a:lnTo>
                      <a:lnTo>
                        <a:pt x="106" y="94"/>
                      </a:lnTo>
                      <a:lnTo>
                        <a:pt x="111" y="94"/>
                      </a:lnTo>
                      <a:lnTo>
                        <a:pt x="129" y="104"/>
                      </a:lnTo>
                      <a:lnTo>
                        <a:pt x="164" y="110"/>
                      </a:lnTo>
                      <a:lnTo>
                        <a:pt x="166" y="144"/>
                      </a:lnTo>
                      <a:lnTo>
                        <a:pt x="174" y="150"/>
                      </a:lnTo>
                      <a:lnTo>
                        <a:pt x="172" y="162"/>
                      </a:lnTo>
                      <a:lnTo>
                        <a:pt x="191" y="179"/>
                      </a:lnTo>
                      <a:lnTo>
                        <a:pt x="210" y="187"/>
                      </a:lnTo>
                      <a:lnTo>
                        <a:pt x="210" y="244"/>
                      </a:lnTo>
                      <a:lnTo>
                        <a:pt x="220" y="267"/>
                      </a:lnTo>
                      <a:lnTo>
                        <a:pt x="214" y="275"/>
                      </a:lnTo>
                      <a:lnTo>
                        <a:pt x="202" y="277"/>
                      </a:lnTo>
                      <a:lnTo>
                        <a:pt x="201" y="257"/>
                      </a:lnTo>
                      <a:lnTo>
                        <a:pt x="180" y="277"/>
                      </a:lnTo>
                      <a:lnTo>
                        <a:pt x="166" y="248"/>
                      </a:lnTo>
                      <a:lnTo>
                        <a:pt x="158" y="226"/>
                      </a:lnTo>
                      <a:lnTo>
                        <a:pt x="134" y="199"/>
                      </a:lnTo>
                      <a:lnTo>
                        <a:pt x="127" y="199"/>
                      </a:lnTo>
                      <a:lnTo>
                        <a:pt x="104" y="185"/>
                      </a:lnTo>
                      <a:lnTo>
                        <a:pt x="99" y="169"/>
                      </a:lnTo>
                      <a:lnTo>
                        <a:pt x="99" y="160"/>
                      </a:lnTo>
                      <a:lnTo>
                        <a:pt x="82" y="119"/>
                      </a:lnTo>
                      <a:lnTo>
                        <a:pt x="74" y="94"/>
                      </a:lnTo>
                      <a:lnTo>
                        <a:pt x="51" y="70"/>
                      </a:lnTo>
                      <a:lnTo>
                        <a:pt x="19" y="37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cap="rnd" w="9360">
                  <a:solidFill>
                    <a:srgbClr val="808080"/>
                  </a:solidFill>
                  <a:round/>
                </a:ln>
                <a:effectLst>
                  <a:outerShdw dist="71785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4268520" y="3546720"/>
                  <a:ext cx="341280" cy="536400"/>
                </a:xfrm>
                <a:custGeom>
                  <a:avLst/>
                  <a:gdLst/>
                  <a:ahLst/>
                  <a:rect l="l" t="t" r="r" b="b"/>
                  <a:pathLst>
                    <a:path w="214" h="311">
                      <a:moveTo>
                        <a:pt x="14" y="0"/>
                      </a:moveTo>
                      <a:lnTo>
                        <a:pt x="33" y="0"/>
                      </a:lnTo>
                      <a:lnTo>
                        <a:pt x="52" y="32"/>
                      </a:lnTo>
                      <a:lnTo>
                        <a:pt x="49" y="63"/>
                      </a:lnTo>
                      <a:lnTo>
                        <a:pt x="61" y="73"/>
                      </a:lnTo>
                      <a:lnTo>
                        <a:pt x="68" y="93"/>
                      </a:lnTo>
                      <a:lnTo>
                        <a:pt x="82" y="103"/>
                      </a:lnTo>
                      <a:lnTo>
                        <a:pt x="98" y="105"/>
                      </a:lnTo>
                      <a:lnTo>
                        <a:pt x="123" y="121"/>
                      </a:lnTo>
                      <a:lnTo>
                        <a:pt x="139" y="141"/>
                      </a:lnTo>
                      <a:lnTo>
                        <a:pt x="142" y="141"/>
                      </a:lnTo>
                      <a:lnTo>
                        <a:pt x="164" y="157"/>
                      </a:lnTo>
                      <a:lnTo>
                        <a:pt x="164" y="195"/>
                      </a:lnTo>
                      <a:lnTo>
                        <a:pt x="170" y="213"/>
                      </a:lnTo>
                      <a:lnTo>
                        <a:pt x="177" y="223"/>
                      </a:lnTo>
                      <a:lnTo>
                        <a:pt x="184" y="233"/>
                      </a:lnTo>
                      <a:lnTo>
                        <a:pt x="192" y="245"/>
                      </a:lnTo>
                      <a:lnTo>
                        <a:pt x="196" y="260"/>
                      </a:lnTo>
                      <a:lnTo>
                        <a:pt x="213" y="272"/>
                      </a:lnTo>
                      <a:lnTo>
                        <a:pt x="210" y="288"/>
                      </a:lnTo>
                      <a:lnTo>
                        <a:pt x="194" y="290"/>
                      </a:lnTo>
                      <a:lnTo>
                        <a:pt x="188" y="278"/>
                      </a:lnTo>
                      <a:lnTo>
                        <a:pt x="177" y="278"/>
                      </a:lnTo>
                      <a:lnTo>
                        <a:pt x="177" y="310"/>
                      </a:lnTo>
                      <a:lnTo>
                        <a:pt x="165" y="310"/>
                      </a:lnTo>
                      <a:lnTo>
                        <a:pt x="153" y="296"/>
                      </a:lnTo>
                      <a:lnTo>
                        <a:pt x="145" y="288"/>
                      </a:lnTo>
                      <a:lnTo>
                        <a:pt x="145" y="270"/>
                      </a:lnTo>
                      <a:lnTo>
                        <a:pt x="126" y="270"/>
                      </a:lnTo>
                      <a:lnTo>
                        <a:pt x="120" y="288"/>
                      </a:lnTo>
                      <a:lnTo>
                        <a:pt x="114" y="270"/>
                      </a:lnTo>
                      <a:lnTo>
                        <a:pt x="112" y="253"/>
                      </a:lnTo>
                      <a:lnTo>
                        <a:pt x="134" y="245"/>
                      </a:lnTo>
                      <a:lnTo>
                        <a:pt x="147" y="251"/>
                      </a:lnTo>
                      <a:lnTo>
                        <a:pt x="149" y="221"/>
                      </a:lnTo>
                      <a:lnTo>
                        <a:pt x="136" y="209"/>
                      </a:lnTo>
                      <a:lnTo>
                        <a:pt x="128" y="185"/>
                      </a:lnTo>
                      <a:lnTo>
                        <a:pt x="123" y="153"/>
                      </a:lnTo>
                      <a:lnTo>
                        <a:pt x="101" y="143"/>
                      </a:lnTo>
                      <a:lnTo>
                        <a:pt x="90" y="129"/>
                      </a:lnTo>
                      <a:lnTo>
                        <a:pt x="72" y="121"/>
                      </a:lnTo>
                      <a:lnTo>
                        <a:pt x="82" y="151"/>
                      </a:lnTo>
                      <a:lnTo>
                        <a:pt x="61" y="165"/>
                      </a:lnTo>
                      <a:lnTo>
                        <a:pt x="49" y="131"/>
                      </a:lnTo>
                      <a:lnTo>
                        <a:pt x="38" y="123"/>
                      </a:lnTo>
                      <a:lnTo>
                        <a:pt x="38" y="105"/>
                      </a:lnTo>
                      <a:lnTo>
                        <a:pt x="24" y="85"/>
                      </a:lnTo>
                      <a:lnTo>
                        <a:pt x="8" y="73"/>
                      </a:lnTo>
                      <a:lnTo>
                        <a:pt x="0" y="59"/>
                      </a:lnTo>
                      <a:lnTo>
                        <a:pt x="5" y="50"/>
                      </a:lnTo>
                      <a:lnTo>
                        <a:pt x="16" y="55"/>
                      </a:lnTo>
                      <a:lnTo>
                        <a:pt x="21" y="42"/>
                      </a:lnTo>
                      <a:lnTo>
                        <a:pt x="16" y="26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ffffff"/>
                </a:solidFill>
                <a:ln cap="rnd" w="9360">
                  <a:solidFill>
                    <a:srgbClr val="808080"/>
                  </a:solidFill>
                  <a:round/>
                </a:ln>
                <a:effectLst>
                  <a:outerShdw dist="71785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4193640" y="2639160"/>
                  <a:ext cx="247320" cy="452160"/>
                </a:xfrm>
                <a:custGeom>
                  <a:avLst/>
                  <a:gdLst/>
                  <a:ahLst/>
                  <a:rect l="l" t="t" r="r" b="b"/>
                  <a:pathLst>
                    <a:path w="155" h="262">
                      <a:moveTo>
                        <a:pt x="31" y="0"/>
                      </a:moveTo>
                      <a:lnTo>
                        <a:pt x="61" y="17"/>
                      </a:lnTo>
                      <a:lnTo>
                        <a:pt x="80" y="36"/>
                      </a:lnTo>
                      <a:lnTo>
                        <a:pt x="91" y="58"/>
                      </a:lnTo>
                      <a:lnTo>
                        <a:pt x="102" y="58"/>
                      </a:lnTo>
                      <a:lnTo>
                        <a:pt x="99" y="74"/>
                      </a:lnTo>
                      <a:lnTo>
                        <a:pt x="112" y="83"/>
                      </a:lnTo>
                      <a:lnTo>
                        <a:pt x="119" y="99"/>
                      </a:lnTo>
                      <a:lnTo>
                        <a:pt x="140" y="129"/>
                      </a:lnTo>
                      <a:lnTo>
                        <a:pt x="154" y="165"/>
                      </a:lnTo>
                      <a:lnTo>
                        <a:pt x="127" y="163"/>
                      </a:lnTo>
                      <a:lnTo>
                        <a:pt x="107" y="157"/>
                      </a:lnTo>
                      <a:lnTo>
                        <a:pt x="121" y="183"/>
                      </a:lnTo>
                      <a:lnTo>
                        <a:pt x="121" y="196"/>
                      </a:lnTo>
                      <a:lnTo>
                        <a:pt x="121" y="212"/>
                      </a:lnTo>
                      <a:lnTo>
                        <a:pt x="113" y="204"/>
                      </a:lnTo>
                      <a:lnTo>
                        <a:pt x="104" y="192"/>
                      </a:lnTo>
                      <a:lnTo>
                        <a:pt x="85" y="177"/>
                      </a:lnTo>
                      <a:lnTo>
                        <a:pt x="75" y="169"/>
                      </a:lnTo>
                      <a:lnTo>
                        <a:pt x="60" y="177"/>
                      </a:lnTo>
                      <a:lnTo>
                        <a:pt x="49" y="183"/>
                      </a:lnTo>
                      <a:lnTo>
                        <a:pt x="55" y="194"/>
                      </a:lnTo>
                      <a:lnTo>
                        <a:pt x="71" y="204"/>
                      </a:lnTo>
                      <a:lnTo>
                        <a:pt x="88" y="214"/>
                      </a:lnTo>
                      <a:lnTo>
                        <a:pt x="93" y="232"/>
                      </a:lnTo>
                      <a:lnTo>
                        <a:pt x="91" y="255"/>
                      </a:lnTo>
                      <a:lnTo>
                        <a:pt x="91" y="261"/>
                      </a:lnTo>
                      <a:lnTo>
                        <a:pt x="85" y="261"/>
                      </a:lnTo>
                      <a:lnTo>
                        <a:pt x="75" y="255"/>
                      </a:lnTo>
                      <a:lnTo>
                        <a:pt x="71" y="251"/>
                      </a:lnTo>
                      <a:lnTo>
                        <a:pt x="66" y="247"/>
                      </a:lnTo>
                      <a:lnTo>
                        <a:pt x="60" y="259"/>
                      </a:lnTo>
                      <a:lnTo>
                        <a:pt x="49" y="261"/>
                      </a:lnTo>
                      <a:lnTo>
                        <a:pt x="41" y="251"/>
                      </a:lnTo>
                      <a:lnTo>
                        <a:pt x="41" y="230"/>
                      </a:lnTo>
                      <a:lnTo>
                        <a:pt x="39" y="218"/>
                      </a:lnTo>
                      <a:lnTo>
                        <a:pt x="30" y="210"/>
                      </a:lnTo>
                      <a:lnTo>
                        <a:pt x="19" y="222"/>
                      </a:lnTo>
                      <a:lnTo>
                        <a:pt x="3" y="222"/>
                      </a:lnTo>
                      <a:lnTo>
                        <a:pt x="0" y="212"/>
                      </a:lnTo>
                      <a:lnTo>
                        <a:pt x="3" y="186"/>
                      </a:lnTo>
                      <a:lnTo>
                        <a:pt x="16" y="173"/>
                      </a:lnTo>
                      <a:lnTo>
                        <a:pt x="14" y="131"/>
                      </a:lnTo>
                      <a:lnTo>
                        <a:pt x="14" y="121"/>
                      </a:lnTo>
                      <a:lnTo>
                        <a:pt x="25" y="119"/>
                      </a:lnTo>
                      <a:lnTo>
                        <a:pt x="36" y="129"/>
                      </a:lnTo>
                      <a:lnTo>
                        <a:pt x="53" y="135"/>
                      </a:lnTo>
                      <a:lnTo>
                        <a:pt x="53" y="117"/>
                      </a:lnTo>
                      <a:lnTo>
                        <a:pt x="46" y="107"/>
                      </a:lnTo>
                      <a:lnTo>
                        <a:pt x="41" y="99"/>
                      </a:lnTo>
                      <a:lnTo>
                        <a:pt x="47" y="99"/>
                      </a:lnTo>
                      <a:lnTo>
                        <a:pt x="52" y="99"/>
                      </a:lnTo>
                      <a:lnTo>
                        <a:pt x="55" y="99"/>
                      </a:lnTo>
                      <a:lnTo>
                        <a:pt x="60" y="99"/>
                      </a:lnTo>
                      <a:lnTo>
                        <a:pt x="66" y="91"/>
                      </a:lnTo>
                      <a:lnTo>
                        <a:pt x="63" y="83"/>
                      </a:lnTo>
                      <a:lnTo>
                        <a:pt x="58" y="66"/>
                      </a:lnTo>
                      <a:lnTo>
                        <a:pt x="46" y="48"/>
                      </a:lnTo>
                      <a:lnTo>
                        <a:pt x="30" y="38"/>
                      </a:lnTo>
                      <a:lnTo>
                        <a:pt x="24" y="25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ffffff"/>
                </a:solidFill>
                <a:ln cap="rnd" w="9360">
                  <a:solidFill>
                    <a:srgbClr val="808080"/>
                  </a:solidFill>
                  <a:round/>
                </a:ln>
                <a:effectLst>
                  <a:outerShdw dist="71785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3912840" y="2097720"/>
                  <a:ext cx="272520" cy="370800"/>
                </a:xfrm>
                <a:custGeom>
                  <a:avLst/>
                  <a:gdLst/>
                  <a:ahLst/>
                  <a:rect l="l" t="t" r="r" b="b"/>
                  <a:pathLst>
                    <a:path w="171" h="215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2" y="14"/>
                      </a:lnTo>
                      <a:lnTo>
                        <a:pt x="45" y="37"/>
                      </a:lnTo>
                      <a:lnTo>
                        <a:pt x="54" y="63"/>
                      </a:lnTo>
                      <a:lnTo>
                        <a:pt x="70" y="65"/>
                      </a:lnTo>
                      <a:lnTo>
                        <a:pt x="83" y="69"/>
                      </a:lnTo>
                      <a:lnTo>
                        <a:pt x="92" y="80"/>
                      </a:lnTo>
                      <a:lnTo>
                        <a:pt x="104" y="80"/>
                      </a:lnTo>
                      <a:lnTo>
                        <a:pt x="119" y="94"/>
                      </a:lnTo>
                      <a:lnTo>
                        <a:pt x="130" y="109"/>
                      </a:lnTo>
                      <a:lnTo>
                        <a:pt x="144" y="115"/>
                      </a:lnTo>
                      <a:lnTo>
                        <a:pt x="143" y="123"/>
                      </a:lnTo>
                      <a:lnTo>
                        <a:pt x="135" y="129"/>
                      </a:lnTo>
                      <a:lnTo>
                        <a:pt x="127" y="129"/>
                      </a:lnTo>
                      <a:lnTo>
                        <a:pt x="122" y="136"/>
                      </a:lnTo>
                      <a:lnTo>
                        <a:pt x="138" y="150"/>
                      </a:lnTo>
                      <a:lnTo>
                        <a:pt x="151" y="166"/>
                      </a:lnTo>
                      <a:lnTo>
                        <a:pt x="170" y="180"/>
                      </a:lnTo>
                      <a:lnTo>
                        <a:pt x="157" y="197"/>
                      </a:lnTo>
                      <a:lnTo>
                        <a:pt x="148" y="203"/>
                      </a:lnTo>
                      <a:lnTo>
                        <a:pt x="149" y="214"/>
                      </a:lnTo>
                      <a:lnTo>
                        <a:pt x="130" y="214"/>
                      </a:lnTo>
                      <a:lnTo>
                        <a:pt x="125" y="205"/>
                      </a:lnTo>
                      <a:lnTo>
                        <a:pt x="111" y="186"/>
                      </a:lnTo>
                      <a:lnTo>
                        <a:pt x="100" y="168"/>
                      </a:lnTo>
                      <a:lnTo>
                        <a:pt x="85" y="138"/>
                      </a:lnTo>
                      <a:lnTo>
                        <a:pt x="67" y="115"/>
                      </a:lnTo>
                      <a:lnTo>
                        <a:pt x="46" y="82"/>
                      </a:lnTo>
                      <a:lnTo>
                        <a:pt x="34" y="73"/>
                      </a:lnTo>
                      <a:lnTo>
                        <a:pt x="24" y="65"/>
                      </a:lnTo>
                      <a:lnTo>
                        <a:pt x="19" y="47"/>
                      </a:lnTo>
                      <a:lnTo>
                        <a:pt x="2" y="31"/>
                      </a:lnTo>
                      <a:lnTo>
                        <a:pt x="2" y="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9360">
                  <a:solidFill>
                    <a:srgbClr val="808080"/>
                  </a:solidFill>
                  <a:round/>
                </a:ln>
                <a:effectLst>
                  <a:outerShdw dist="71785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" name=""/>
              <p:cNvSpPr/>
              <p:nvPr/>
            </p:nvSpPr>
            <p:spPr>
              <a:xfrm>
                <a:off x="365040" y="2858400"/>
                <a:ext cx="1971720" cy="2803680"/>
              </a:xfrm>
              <a:custGeom>
                <a:avLst/>
                <a:gdLst/>
                <a:ahLst/>
                <a:rect l="l" t="t" r="r" b="b"/>
                <a:pathLst>
                  <a:path w="1236" h="1625">
                    <a:moveTo>
                      <a:pt x="924" y="193"/>
                    </a:moveTo>
                    <a:lnTo>
                      <a:pt x="945" y="263"/>
                    </a:lnTo>
                    <a:lnTo>
                      <a:pt x="983" y="365"/>
                    </a:lnTo>
                    <a:lnTo>
                      <a:pt x="1059" y="531"/>
                    </a:lnTo>
                    <a:lnTo>
                      <a:pt x="1087" y="553"/>
                    </a:lnTo>
                    <a:lnTo>
                      <a:pt x="1105" y="602"/>
                    </a:lnTo>
                    <a:lnTo>
                      <a:pt x="1167" y="598"/>
                    </a:lnTo>
                    <a:lnTo>
                      <a:pt x="1206" y="584"/>
                    </a:lnTo>
                    <a:lnTo>
                      <a:pt x="1235" y="584"/>
                    </a:lnTo>
                    <a:lnTo>
                      <a:pt x="1233" y="650"/>
                    </a:lnTo>
                    <a:lnTo>
                      <a:pt x="1222" y="685"/>
                    </a:lnTo>
                    <a:lnTo>
                      <a:pt x="1111" y="828"/>
                    </a:lnTo>
                    <a:lnTo>
                      <a:pt x="1011" y="980"/>
                    </a:lnTo>
                    <a:lnTo>
                      <a:pt x="1013" y="1038"/>
                    </a:lnTo>
                    <a:lnTo>
                      <a:pt x="1041" y="1081"/>
                    </a:lnTo>
                    <a:lnTo>
                      <a:pt x="1027" y="1113"/>
                    </a:lnTo>
                    <a:lnTo>
                      <a:pt x="1035" y="1158"/>
                    </a:lnTo>
                    <a:lnTo>
                      <a:pt x="1027" y="1192"/>
                    </a:lnTo>
                    <a:lnTo>
                      <a:pt x="1002" y="1219"/>
                    </a:lnTo>
                    <a:lnTo>
                      <a:pt x="983" y="1219"/>
                    </a:lnTo>
                    <a:lnTo>
                      <a:pt x="948" y="1267"/>
                    </a:lnTo>
                    <a:lnTo>
                      <a:pt x="918" y="1322"/>
                    </a:lnTo>
                    <a:lnTo>
                      <a:pt x="924" y="1381"/>
                    </a:lnTo>
                    <a:lnTo>
                      <a:pt x="894" y="1409"/>
                    </a:lnTo>
                    <a:lnTo>
                      <a:pt x="865" y="1472"/>
                    </a:lnTo>
                    <a:lnTo>
                      <a:pt x="831" y="1531"/>
                    </a:lnTo>
                    <a:lnTo>
                      <a:pt x="813" y="1553"/>
                    </a:lnTo>
                    <a:lnTo>
                      <a:pt x="797" y="1559"/>
                    </a:lnTo>
                    <a:lnTo>
                      <a:pt x="769" y="1596"/>
                    </a:lnTo>
                    <a:lnTo>
                      <a:pt x="721" y="1618"/>
                    </a:lnTo>
                    <a:lnTo>
                      <a:pt x="664" y="1624"/>
                    </a:lnTo>
                    <a:lnTo>
                      <a:pt x="631" y="1598"/>
                    </a:lnTo>
                    <a:lnTo>
                      <a:pt x="628" y="1573"/>
                    </a:lnTo>
                    <a:lnTo>
                      <a:pt x="621" y="1541"/>
                    </a:lnTo>
                    <a:lnTo>
                      <a:pt x="598" y="1523"/>
                    </a:lnTo>
                    <a:lnTo>
                      <a:pt x="579" y="1460"/>
                    </a:lnTo>
                    <a:lnTo>
                      <a:pt x="574" y="1431"/>
                    </a:lnTo>
                    <a:lnTo>
                      <a:pt x="571" y="1393"/>
                    </a:lnTo>
                    <a:lnTo>
                      <a:pt x="561" y="1365"/>
                    </a:lnTo>
                    <a:lnTo>
                      <a:pt x="560" y="1348"/>
                    </a:lnTo>
                    <a:lnTo>
                      <a:pt x="541" y="1320"/>
                    </a:lnTo>
                    <a:lnTo>
                      <a:pt x="520" y="1296"/>
                    </a:lnTo>
                    <a:lnTo>
                      <a:pt x="508" y="1259"/>
                    </a:lnTo>
                    <a:lnTo>
                      <a:pt x="496" y="1231"/>
                    </a:lnTo>
                    <a:lnTo>
                      <a:pt x="501" y="1186"/>
                    </a:lnTo>
                    <a:lnTo>
                      <a:pt x="531" y="1119"/>
                    </a:lnTo>
                    <a:lnTo>
                      <a:pt x="538" y="1045"/>
                    </a:lnTo>
                    <a:lnTo>
                      <a:pt x="515" y="963"/>
                    </a:lnTo>
                    <a:lnTo>
                      <a:pt x="482" y="929"/>
                    </a:lnTo>
                    <a:lnTo>
                      <a:pt x="460" y="884"/>
                    </a:lnTo>
                    <a:lnTo>
                      <a:pt x="468" y="814"/>
                    </a:lnTo>
                    <a:lnTo>
                      <a:pt x="452" y="762"/>
                    </a:lnTo>
                    <a:lnTo>
                      <a:pt x="414" y="758"/>
                    </a:lnTo>
                    <a:lnTo>
                      <a:pt x="374" y="717"/>
                    </a:lnTo>
                    <a:lnTo>
                      <a:pt x="324" y="695"/>
                    </a:lnTo>
                    <a:lnTo>
                      <a:pt x="271" y="731"/>
                    </a:lnTo>
                    <a:lnTo>
                      <a:pt x="133" y="719"/>
                    </a:lnTo>
                    <a:lnTo>
                      <a:pt x="59" y="632"/>
                    </a:lnTo>
                    <a:lnTo>
                      <a:pt x="0" y="511"/>
                    </a:lnTo>
                    <a:lnTo>
                      <a:pt x="10" y="470"/>
                    </a:lnTo>
                    <a:lnTo>
                      <a:pt x="36" y="440"/>
                    </a:lnTo>
                    <a:lnTo>
                      <a:pt x="49" y="357"/>
                    </a:lnTo>
                    <a:lnTo>
                      <a:pt x="67" y="298"/>
                    </a:lnTo>
                    <a:lnTo>
                      <a:pt x="119" y="235"/>
                    </a:lnTo>
                    <a:lnTo>
                      <a:pt x="173" y="207"/>
                    </a:lnTo>
                    <a:lnTo>
                      <a:pt x="224" y="142"/>
                    </a:lnTo>
                    <a:lnTo>
                      <a:pt x="236" y="115"/>
                    </a:lnTo>
                    <a:lnTo>
                      <a:pt x="303" y="43"/>
                    </a:lnTo>
                    <a:lnTo>
                      <a:pt x="346" y="71"/>
                    </a:lnTo>
                    <a:lnTo>
                      <a:pt x="376" y="69"/>
                    </a:lnTo>
                    <a:lnTo>
                      <a:pt x="412" y="32"/>
                    </a:lnTo>
                    <a:lnTo>
                      <a:pt x="454" y="26"/>
                    </a:lnTo>
                    <a:lnTo>
                      <a:pt x="482" y="36"/>
                    </a:lnTo>
                    <a:lnTo>
                      <a:pt x="509" y="6"/>
                    </a:lnTo>
                    <a:lnTo>
                      <a:pt x="542" y="0"/>
                    </a:lnTo>
                    <a:lnTo>
                      <a:pt x="552" y="55"/>
                    </a:lnTo>
                    <a:lnTo>
                      <a:pt x="574" y="97"/>
                    </a:lnTo>
                    <a:lnTo>
                      <a:pt x="637" y="136"/>
                    </a:lnTo>
                    <a:lnTo>
                      <a:pt x="689" y="144"/>
                    </a:lnTo>
                    <a:lnTo>
                      <a:pt x="696" y="99"/>
                    </a:lnTo>
                    <a:lnTo>
                      <a:pt x="735" y="99"/>
                    </a:lnTo>
                    <a:lnTo>
                      <a:pt x="785" y="126"/>
                    </a:lnTo>
                    <a:lnTo>
                      <a:pt x="837" y="142"/>
                    </a:lnTo>
                    <a:lnTo>
                      <a:pt x="883" y="124"/>
                    </a:lnTo>
                    <a:lnTo>
                      <a:pt x="924" y="193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808080"/>
                </a:solidFill>
                <a:round/>
              </a:ln>
              <a:effectLst>
                <a:outerShdw dist="71785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" name=""/>
              <p:cNvGrpSpPr/>
              <p:nvPr/>
            </p:nvGrpSpPr>
            <p:grpSpPr>
              <a:xfrm>
                <a:off x="498600" y="1340280"/>
                <a:ext cx="870840" cy="966600"/>
                <a:chOff x="498600" y="1340280"/>
                <a:chExt cx="870840" cy="966600"/>
              </a:xfrm>
            </p:grpSpPr>
            <p:grpSp>
              <p:nvGrpSpPr>
                <p:cNvPr id="70" name=""/>
                <p:cNvGrpSpPr/>
                <p:nvPr/>
              </p:nvGrpSpPr>
              <p:grpSpPr>
                <a:xfrm>
                  <a:off x="846360" y="1940040"/>
                  <a:ext cx="267120" cy="366840"/>
                  <a:chOff x="846360" y="1940040"/>
                  <a:chExt cx="267120" cy="366840"/>
                </a:xfrm>
              </p:grpSpPr>
              <p:sp>
                <p:nvSpPr>
                  <p:cNvPr id="71" name=""/>
                  <p:cNvSpPr/>
                  <p:nvPr/>
                </p:nvSpPr>
                <p:spPr>
                  <a:xfrm>
                    <a:off x="846360" y="2072880"/>
                    <a:ext cx="124200" cy="2066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20">
                        <a:moveTo>
                          <a:pt x="18" y="36"/>
                        </a:moveTo>
                        <a:lnTo>
                          <a:pt x="24" y="24"/>
                        </a:lnTo>
                        <a:lnTo>
                          <a:pt x="38" y="24"/>
                        </a:lnTo>
                        <a:lnTo>
                          <a:pt x="58" y="0"/>
                        </a:lnTo>
                        <a:lnTo>
                          <a:pt x="63" y="16"/>
                        </a:lnTo>
                        <a:lnTo>
                          <a:pt x="74" y="16"/>
                        </a:lnTo>
                        <a:lnTo>
                          <a:pt x="77" y="24"/>
                        </a:lnTo>
                        <a:lnTo>
                          <a:pt x="72" y="36"/>
                        </a:lnTo>
                        <a:lnTo>
                          <a:pt x="63" y="42"/>
                        </a:lnTo>
                        <a:lnTo>
                          <a:pt x="63" y="52"/>
                        </a:lnTo>
                        <a:lnTo>
                          <a:pt x="61" y="56"/>
                        </a:lnTo>
                        <a:lnTo>
                          <a:pt x="59" y="65"/>
                        </a:lnTo>
                        <a:lnTo>
                          <a:pt x="63" y="75"/>
                        </a:lnTo>
                        <a:lnTo>
                          <a:pt x="58" y="85"/>
                        </a:lnTo>
                        <a:lnTo>
                          <a:pt x="52" y="91"/>
                        </a:lnTo>
                        <a:lnTo>
                          <a:pt x="45" y="91"/>
                        </a:lnTo>
                        <a:lnTo>
                          <a:pt x="44" y="93"/>
                        </a:lnTo>
                        <a:lnTo>
                          <a:pt x="40" y="101"/>
                        </a:lnTo>
                        <a:lnTo>
                          <a:pt x="32" y="103"/>
                        </a:lnTo>
                        <a:lnTo>
                          <a:pt x="30" y="101"/>
                        </a:lnTo>
                        <a:lnTo>
                          <a:pt x="22" y="109"/>
                        </a:lnTo>
                        <a:lnTo>
                          <a:pt x="19" y="111"/>
                        </a:lnTo>
                        <a:lnTo>
                          <a:pt x="10" y="119"/>
                        </a:lnTo>
                        <a:lnTo>
                          <a:pt x="6" y="119"/>
                        </a:lnTo>
                        <a:lnTo>
                          <a:pt x="3" y="113"/>
                        </a:lnTo>
                        <a:lnTo>
                          <a:pt x="2" y="101"/>
                        </a:lnTo>
                        <a:lnTo>
                          <a:pt x="0" y="99"/>
                        </a:lnTo>
                        <a:lnTo>
                          <a:pt x="0" y="89"/>
                        </a:lnTo>
                        <a:lnTo>
                          <a:pt x="6" y="83"/>
                        </a:lnTo>
                        <a:lnTo>
                          <a:pt x="11" y="79"/>
                        </a:lnTo>
                        <a:lnTo>
                          <a:pt x="16" y="69"/>
                        </a:lnTo>
                        <a:lnTo>
                          <a:pt x="22" y="69"/>
                        </a:lnTo>
                        <a:lnTo>
                          <a:pt x="25" y="71"/>
                        </a:lnTo>
                        <a:lnTo>
                          <a:pt x="32" y="69"/>
                        </a:lnTo>
                        <a:lnTo>
                          <a:pt x="25" y="65"/>
                        </a:lnTo>
                        <a:lnTo>
                          <a:pt x="18" y="36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9360">
                    <a:solidFill>
                      <a:srgbClr val="808080"/>
                    </a:solidFill>
                    <a:round/>
                  </a:ln>
                  <a:effectLst>
                    <a:outerShdw dist="71785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960840" y="1940040"/>
                    <a:ext cx="152640" cy="36684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213">
                        <a:moveTo>
                          <a:pt x="31" y="30"/>
                        </a:moveTo>
                        <a:lnTo>
                          <a:pt x="35" y="22"/>
                        </a:lnTo>
                        <a:lnTo>
                          <a:pt x="55" y="26"/>
                        </a:lnTo>
                        <a:lnTo>
                          <a:pt x="58" y="20"/>
                        </a:lnTo>
                        <a:lnTo>
                          <a:pt x="63" y="12"/>
                        </a:lnTo>
                        <a:lnTo>
                          <a:pt x="68" y="12"/>
                        </a:lnTo>
                        <a:lnTo>
                          <a:pt x="71" y="10"/>
                        </a:lnTo>
                        <a:lnTo>
                          <a:pt x="77" y="6"/>
                        </a:lnTo>
                        <a:lnTo>
                          <a:pt x="85" y="0"/>
                        </a:lnTo>
                        <a:lnTo>
                          <a:pt x="95" y="2"/>
                        </a:lnTo>
                        <a:lnTo>
                          <a:pt x="93" y="12"/>
                        </a:lnTo>
                        <a:lnTo>
                          <a:pt x="90" y="20"/>
                        </a:lnTo>
                        <a:lnTo>
                          <a:pt x="85" y="22"/>
                        </a:lnTo>
                        <a:lnTo>
                          <a:pt x="81" y="26"/>
                        </a:lnTo>
                        <a:lnTo>
                          <a:pt x="69" y="30"/>
                        </a:lnTo>
                        <a:lnTo>
                          <a:pt x="69" y="40"/>
                        </a:lnTo>
                        <a:lnTo>
                          <a:pt x="71" y="46"/>
                        </a:lnTo>
                        <a:lnTo>
                          <a:pt x="84" y="40"/>
                        </a:lnTo>
                        <a:lnTo>
                          <a:pt x="93" y="36"/>
                        </a:lnTo>
                        <a:lnTo>
                          <a:pt x="95" y="40"/>
                        </a:lnTo>
                        <a:lnTo>
                          <a:pt x="95" y="56"/>
                        </a:lnTo>
                        <a:lnTo>
                          <a:pt x="87" y="58"/>
                        </a:lnTo>
                        <a:lnTo>
                          <a:pt x="79" y="58"/>
                        </a:lnTo>
                        <a:lnTo>
                          <a:pt x="72" y="66"/>
                        </a:lnTo>
                        <a:lnTo>
                          <a:pt x="71" y="72"/>
                        </a:lnTo>
                        <a:lnTo>
                          <a:pt x="71" y="78"/>
                        </a:lnTo>
                        <a:lnTo>
                          <a:pt x="77" y="90"/>
                        </a:lnTo>
                        <a:lnTo>
                          <a:pt x="84" y="96"/>
                        </a:lnTo>
                        <a:lnTo>
                          <a:pt x="87" y="104"/>
                        </a:lnTo>
                        <a:lnTo>
                          <a:pt x="90" y="114"/>
                        </a:lnTo>
                        <a:lnTo>
                          <a:pt x="92" y="124"/>
                        </a:lnTo>
                        <a:lnTo>
                          <a:pt x="95" y="138"/>
                        </a:lnTo>
                        <a:lnTo>
                          <a:pt x="95" y="156"/>
                        </a:lnTo>
                        <a:lnTo>
                          <a:pt x="92" y="166"/>
                        </a:lnTo>
                        <a:lnTo>
                          <a:pt x="84" y="174"/>
                        </a:lnTo>
                        <a:lnTo>
                          <a:pt x="81" y="178"/>
                        </a:lnTo>
                        <a:lnTo>
                          <a:pt x="85" y="188"/>
                        </a:lnTo>
                        <a:lnTo>
                          <a:pt x="90" y="198"/>
                        </a:lnTo>
                        <a:lnTo>
                          <a:pt x="77" y="198"/>
                        </a:lnTo>
                        <a:lnTo>
                          <a:pt x="68" y="198"/>
                        </a:lnTo>
                        <a:lnTo>
                          <a:pt x="63" y="196"/>
                        </a:lnTo>
                        <a:lnTo>
                          <a:pt x="55" y="196"/>
                        </a:lnTo>
                        <a:lnTo>
                          <a:pt x="45" y="198"/>
                        </a:lnTo>
                        <a:lnTo>
                          <a:pt x="35" y="204"/>
                        </a:lnTo>
                        <a:lnTo>
                          <a:pt x="31" y="204"/>
                        </a:lnTo>
                        <a:lnTo>
                          <a:pt x="26" y="206"/>
                        </a:lnTo>
                        <a:lnTo>
                          <a:pt x="16" y="212"/>
                        </a:lnTo>
                        <a:lnTo>
                          <a:pt x="13" y="208"/>
                        </a:lnTo>
                        <a:lnTo>
                          <a:pt x="10" y="204"/>
                        </a:lnTo>
                        <a:lnTo>
                          <a:pt x="3" y="202"/>
                        </a:lnTo>
                        <a:lnTo>
                          <a:pt x="0" y="198"/>
                        </a:lnTo>
                        <a:lnTo>
                          <a:pt x="0" y="188"/>
                        </a:lnTo>
                        <a:lnTo>
                          <a:pt x="3" y="176"/>
                        </a:lnTo>
                        <a:lnTo>
                          <a:pt x="10" y="176"/>
                        </a:lnTo>
                        <a:lnTo>
                          <a:pt x="16" y="174"/>
                        </a:lnTo>
                        <a:lnTo>
                          <a:pt x="24" y="174"/>
                        </a:lnTo>
                        <a:lnTo>
                          <a:pt x="24" y="170"/>
                        </a:lnTo>
                        <a:lnTo>
                          <a:pt x="16" y="166"/>
                        </a:lnTo>
                        <a:lnTo>
                          <a:pt x="16" y="158"/>
                        </a:lnTo>
                        <a:lnTo>
                          <a:pt x="16" y="152"/>
                        </a:lnTo>
                        <a:lnTo>
                          <a:pt x="24" y="148"/>
                        </a:lnTo>
                        <a:lnTo>
                          <a:pt x="27" y="146"/>
                        </a:lnTo>
                        <a:lnTo>
                          <a:pt x="32" y="142"/>
                        </a:lnTo>
                        <a:lnTo>
                          <a:pt x="39" y="142"/>
                        </a:lnTo>
                        <a:lnTo>
                          <a:pt x="42" y="140"/>
                        </a:lnTo>
                        <a:lnTo>
                          <a:pt x="45" y="120"/>
                        </a:lnTo>
                        <a:lnTo>
                          <a:pt x="50" y="104"/>
                        </a:lnTo>
                        <a:lnTo>
                          <a:pt x="50" y="96"/>
                        </a:lnTo>
                        <a:lnTo>
                          <a:pt x="35" y="94"/>
                        </a:lnTo>
                        <a:lnTo>
                          <a:pt x="40" y="82"/>
                        </a:lnTo>
                        <a:lnTo>
                          <a:pt x="31" y="74"/>
                        </a:lnTo>
                        <a:lnTo>
                          <a:pt x="19" y="76"/>
                        </a:lnTo>
                        <a:lnTo>
                          <a:pt x="32" y="58"/>
                        </a:lnTo>
                        <a:lnTo>
                          <a:pt x="31" y="3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9360">
                    <a:solidFill>
                      <a:srgbClr val="808080"/>
                    </a:solidFill>
                    <a:round/>
                  </a:ln>
                  <a:effectLst>
                    <a:outerShdw dist="71785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" name=""/>
                <p:cNvSpPr/>
                <p:nvPr/>
              </p:nvSpPr>
              <p:spPr>
                <a:xfrm>
                  <a:off x="498600" y="1340280"/>
                  <a:ext cx="870840" cy="606960"/>
                </a:xfrm>
                <a:custGeom>
                  <a:avLst/>
                  <a:gdLst/>
                  <a:ahLst/>
                  <a:rect l="l" t="t" r="r" b="b"/>
                  <a:pathLst>
                    <a:path w="546" h="352">
                      <a:moveTo>
                        <a:pt x="0" y="351"/>
                      </a:moveTo>
                      <a:lnTo>
                        <a:pt x="35" y="343"/>
                      </a:lnTo>
                      <a:lnTo>
                        <a:pt x="46" y="329"/>
                      </a:lnTo>
                      <a:lnTo>
                        <a:pt x="55" y="320"/>
                      </a:lnTo>
                      <a:lnTo>
                        <a:pt x="59" y="312"/>
                      </a:lnTo>
                      <a:lnTo>
                        <a:pt x="67" y="312"/>
                      </a:lnTo>
                      <a:lnTo>
                        <a:pt x="74" y="304"/>
                      </a:lnTo>
                      <a:lnTo>
                        <a:pt x="86" y="304"/>
                      </a:lnTo>
                      <a:lnTo>
                        <a:pt x="90" y="304"/>
                      </a:lnTo>
                      <a:lnTo>
                        <a:pt x="100" y="304"/>
                      </a:lnTo>
                      <a:lnTo>
                        <a:pt x="103" y="304"/>
                      </a:lnTo>
                      <a:lnTo>
                        <a:pt x="111" y="294"/>
                      </a:lnTo>
                      <a:lnTo>
                        <a:pt x="116" y="286"/>
                      </a:lnTo>
                      <a:lnTo>
                        <a:pt x="125" y="278"/>
                      </a:lnTo>
                      <a:lnTo>
                        <a:pt x="133" y="276"/>
                      </a:lnTo>
                      <a:lnTo>
                        <a:pt x="139" y="272"/>
                      </a:lnTo>
                      <a:lnTo>
                        <a:pt x="147" y="268"/>
                      </a:lnTo>
                      <a:lnTo>
                        <a:pt x="154" y="264"/>
                      </a:lnTo>
                      <a:lnTo>
                        <a:pt x="162" y="259"/>
                      </a:lnTo>
                      <a:lnTo>
                        <a:pt x="170" y="255"/>
                      </a:lnTo>
                      <a:lnTo>
                        <a:pt x="179" y="247"/>
                      </a:lnTo>
                      <a:lnTo>
                        <a:pt x="190" y="249"/>
                      </a:lnTo>
                      <a:lnTo>
                        <a:pt x="206" y="255"/>
                      </a:lnTo>
                      <a:lnTo>
                        <a:pt x="222" y="255"/>
                      </a:lnTo>
                      <a:lnTo>
                        <a:pt x="241" y="247"/>
                      </a:lnTo>
                      <a:lnTo>
                        <a:pt x="249" y="245"/>
                      </a:lnTo>
                      <a:lnTo>
                        <a:pt x="255" y="229"/>
                      </a:lnTo>
                      <a:lnTo>
                        <a:pt x="263" y="219"/>
                      </a:lnTo>
                      <a:lnTo>
                        <a:pt x="277" y="205"/>
                      </a:lnTo>
                      <a:lnTo>
                        <a:pt x="280" y="200"/>
                      </a:lnTo>
                      <a:lnTo>
                        <a:pt x="280" y="190"/>
                      </a:lnTo>
                      <a:lnTo>
                        <a:pt x="293" y="182"/>
                      </a:lnTo>
                      <a:lnTo>
                        <a:pt x="299" y="173"/>
                      </a:lnTo>
                      <a:lnTo>
                        <a:pt x="303" y="165"/>
                      </a:lnTo>
                      <a:lnTo>
                        <a:pt x="307" y="163"/>
                      </a:lnTo>
                      <a:lnTo>
                        <a:pt x="326" y="147"/>
                      </a:lnTo>
                      <a:lnTo>
                        <a:pt x="326" y="163"/>
                      </a:lnTo>
                      <a:lnTo>
                        <a:pt x="323" y="171"/>
                      </a:lnTo>
                      <a:lnTo>
                        <a:pt x="326" y="178"/>
                      </a:lnTo>
                      <a:lnTo>
                        <a:pt x="341" y="182"/>
                      </a:lnTo>
                      <a:lnTo>
                        <a:pt x="349" y="182"/>
                      </a:lnTo>
                      <a:lnTo>
                        <a:pt x="358" y="173"/>
                      </a:lnTo>
                      <a:lnTo>
                        <a:pt x="363" y="163"/>
                      </a:lnTo>
                      <a:lnTo>
                        <a:pt x="363" y="155"/>
                      </a:lnTo>
                      <a:lnTo>
                        <a:pt x="369" y="147"/>
                      </a:lnTo>
                      <a:lnTo>
                        <a:pt x="369" y="140"/>
                      </a:lnTo>
                      <a:lnTo>
                        <a:pt x="375" y="130"/>
                      </a:lnTo>
                      <a:lnTo>
                        <a:pt x="380" y="126"/>
                      </a:lnTo>
                      <a:lnTo>
                        <a:pt x="390" y="126"/>
                      </a:lnTo>
                      <a:lnTo>
                        <a:pt x="410" y="126"/>
                      </a:lnTo>
                      <a:lnTo>
                        <a:pt x="426" y="116"/>
                      </a:lnTo>
                      <a:lnTo>
                        <a:pt x="440" y="100"/>
                      </a:lnTo>
                      <a:lnTo>
                        <a:pt x="456" y="94"/>
                      </a:lnTo>
                      <a:lnTo>
                        <a:pt x="471" y="83"/>
                      </a:lnTo>
                      <a:lnTo>
                        <a:pt x="480" y="63"/>
                      </a:lnTo>
                      <a:lnTo>
                        <a:pt x="502" y="39"/>
                      </a:lnTo>
                      <a:lnTo>
                        <a:pt x="516" y="29"/>
                      </a:lnTo>
                      <a:lnTo>
                        <a:pt x="531" y="20"/>
                      </a:lnTo>
                      <a:lnTo>
                        <a:pt x="545" y="8"/>
                      </a:lnTo>
                      <a:lnTo>
                        <a:pt x="521" y="0"/>
                      </a:lnTo>
                      <a:lnTo>
                        <a:pt x="496" y="0"/>
                      </a:lnTo>
                      <a:lnTo>
                        <a:pt x="472" y="12"/>
                      </a:lnTo>
                      <a:lnTo>
                        <a:pt x="459" y="20"/>
                      </a:lnTo>
                      <a:lnTo>
                        <a:pt x="440" y="26"/>
                      </a:lnTo>
                      <a:lnTo>
                        <a:pt x="418" y="28"/>
                      </a:lnTo>
                      <a:lnTo>
                        <a:pt x="406" y="33"/>
                      </a:lnTo>
                      <a:lnTo>
                        <a:pt x="380" y="45"/>
                      </a:lnTo>
                      <a:lnTo>
                        <a:pt x="363" y="53"/>
                      </a:lnTo>
                      <a:lnTo>
                        <a:pt x="347" y="61"/>
                      </a:lnTo>
                      <a:lnTo>
                        <a:pt x="326" y="65"/>
                      </a:lnTo>
                      <a:lnTo>
                        <a:pt x="307" y="73"/>
                      </a:lnTo>
                      <a:lnTo>
                        <a:pt x="288" y="83"/>
                      </a:lnTo>
                      <a:lnTo>
                        <a:pt x="274" y="94"/>
                      </a:lnTo>
                      <a:lnTo>
                        <a:pt x="263" y="108"/>
                      </a:lnTo>
                      <a:lnTo>
                        <a:pt x="250" y="118"/>
                      </a:lnTo>
                      <a:lnTo>
                        <a:pt x="241" y="126"/>
                      </a:lnTo>
                      <a:lnTo>
                        <a:pt x="219" y="140"/>
                      </a:lnTo>
                      <a:lnTo>
                        <a:pt x="196" y="155"/>
                      </a:lnTo>
                      <a:lnTo>
                        <a:pt x="170" y="173"/>
                      </a:lnTo>
                      <a:lnTo>
                        <a:pt x="152" y="196"/>
                      </a:lnTo>
                      <a:lnTo>
                        <a:pt x="131" y="213"/>
                      </a:lnTo>
                      <a:lnTo>
                        <a:pt x="112" y="223"/>
                      </a:lnTo>
                      <a:lnTo>
                        <a:pt x="95" y="247"/>
                      </a:lnTo>
                      <a:lnTo>
                        <a:pt x="82" y="261"/>
                      </a:lnTo>
                      <a:lnTo>
                        <a:pt x="67" y="276"/>
                      </a:lnTo>
                      <a:lnTo>
                        <a:pt x="51" y="286"/>
                      </a:lnTo>
                      <a:lnTo>
                        <a:pt x="35" y="296"/>
                      </a:lnTo>
                      <a:lnTo>
                        <a:pt x="0" y="351"/>
                      </a:lnTo>
                    </a:path>
                  </a:pathLst>
                </a:custGeom>
                <a:solidFill>
                  <a:srgbClr val="ffffff"/>
                </a:solidFill>
                <a:ln cap="rnd" w="9360">
                  <a:solidFill>
                    <a:srgbClr val="808080"/>
                  </a:solidFill>
                  <a:round/>
                </a:ln>
                <a:effectLst>
                  <a:outerShdw dist="71785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2041560" y="4772160"/>
                <a:ext cx="261720" cy="595080"/>
              </a:xfrm>
              <a:custGeom>
                <a:avLst/>
                <a:gdLst/>
                <a:ahLst/>
                <a:rect l="l" t="t" r="r" b="b"/>
                <a:pathLst>
                  <a:path w="164" h="345">
                    <a:moveTo>
                      <a:pt x="30" y="109"/>
                    </a:moveTo>
                    <a:lnTo>
                      <a:pt x="27" y="177"/>
                    </a:lnTo>
                    <a:lnTo>
                      <a:pt x="13" y="221"/>
                    </a:lnTo>
                    <a:lnTo>
                      <a:pt x="0" y="260"/>
                    </a:lnTo>
                    <a:lnTo>
                      <a:pt x="0" y="290"/>
                    </a:lnTo>
                    <a:lnTo>
                      <a:pt x="5" y="316"/>
                    </a:lnTo>
                    <a:lnTo>
                      <a:pt x="19" y="340"/>
                    </a:lnTo>
                    <a:lnTo>
                      <a:pt x="30" y="342"/>
                    </a:lnTo>
                    <a:lnTo>
                      <a:pt x="41" y="342"/>
                    </a:lnTo>
                    <a:lnTo>
                      <a:pt x="52" y="344"/>
                    </a:lnTo>
                    <a:lnTo>
                      <a:pt x="59" y="326"/>
                    </a:lnTo>
                    <a:lnTo>
                      <a:pt x="65" y="280"/>
                    </a:lnTo>
                    <a:lnTo>
                      <a:pt x="84" y="251"/>
                    </a:lnTo>
                    <a:lnTo>
                      <a:pt x="88" y="205"/>
                    </a:lnTo>
                    <a:lnTo>
                      <a:pt x="96" y="187"/>
                    </a:lnTo>
                    <a:lnTo>
                      <a:pt x="104" y="175"/>
                    </a:lnTo>
                    <a:lnTo>
                      <a:pt x="111" y="141"/>
                    </a:lnTo>
                    <a:lnTo>
                      <a:pt x="123" y="121"/>
                    </a:lnTo>
                    <a:lnTo>
                      <a:pt x="131" y="105"/>
                    </a:lnTo>
                    <a:lnTo>
                      <a:pt x="139" y="93"/>
                    </a:lnTo>
                    <a:lnTo>
                      <a:pt x="139" y="86"/>
                    </a:lnTo>
                    <a:lnTo>
                      <a:pt x="157" y="68"/>
                    </a:lnTo>
                    <a:lnTo>
                      <a:pt x="160" y="38"/>
                    </a:lnTo>
                    <a:lnTo>
                      <a:pt x="163" y="20"/>
                    </a:lnTo>
                    <a:lnTo>
                      <a:pt x="147" y="12"/>
                    </a:lnTo>
                    <a:lnTo>
                      <a:pt x="138" y="0"/>
                    </a:lnTo>
                    <a:lnTo>
                      <a:pt x="123" y="12"/>
                    </a:lnTo>
                    <a:lnTo>
                      <a:pt x="111" y="44"/>
                    </a:lnTo>
                    <a:lnTo>
                      <a:pt x="96" y="66"/>
                    </a:lnTo>
                    <a:lnTo>
                      <a:pt x="84" y="84"/>
                    </a:lnTo>
                    <a:lnTo>
                      <a:pt x="78" y="84"/>
                    </a:lnTo>
                    <a:lnTo>
                      <a:pt x="65" y="93"/>
                    </a:lnTo>
                    <a:lnTo>
                      <a:pt x="59" y="103"/>
                    </a:lnTo>
                    <a:lnTo>
                      <a:pt x="30" y="109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808080"/>
                </a:solidFill>
                <a:round/>
              </a:ln>
              <a:effectLst>
                <a:outerShdw dist="71785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98840" y="1393200"/>
                <a:ext cx="3524040" cy="2800080"/>
              </a:xfrm>
              <a:custGeom>
                <a:avLst/>
                <a:gdLst/>
                <a:ahLst/>
                <a:rect l="l" t="t" r="r" b="b"/>
                <a:pathLst>
                  <a:path w="2209" h="1623">
                    <a:moveTo>
                      <a:pt x="0" y="725"/>
                    </a:moveTo>
                    <a:lnTo>
                      <a:pt x="19" y="704"/>
                    </a:lnTo>
                    <a:lnTo>
                      <a:pt x="32" y="686"/>
                    </a:lnTo>
                    <a:lnTo>
                      <a:pt x="59" y="686"/>
                    </a:lnTo>
                    <a:lnTo>
                      <a:pt x="86" y="692"/>
                    </a:lnTo>
                    <a:lnTo>
                      <a:pt x="106" y="682"/>
                    </a:lnTo>
                    <a:lnTo>
                      <a:pt x="128" y="678"/>
                    </a:lnTo>
                    <a:lnTo>
                      <a:pt x="130" y="648"/>
                    </a:lnTo>
                    <a:lnTo>
                      <a:pt x="143" y="629"/>
                    </a:lnTo>
                    <a:lnTo>
                      <a:pt x="112" y="605"/>
                    </a:lnTo>
                    <a:lnTo>
                      <a:pt x="108" y="587"/>
                    </a:lnTo>
                    <a:lnTo>
                      <a:pt x="111" y="563"/>
                    </a:lnTo>
                    <a:lnTo>
                      <a:pt x="133" y="563"/>
                    </a:lnTo>
                    <a:lnTo>
                      <a:pt x="147" y="559"/>
                    </a:lnTo>
                    <a:lnTo>
                      <a:pt x="149" y="563"/>
                    </a:lnTo>
                    <a:lnTo>
                      <a:pt x="165" y="548"/>
                    </a:lnTo>
                    <a:lnTo>
                      <a:pt x="181" y="540"/>
                    </a:lnTo>
                    <a:lnTo>
                      <a:pt x="187" y="540"/>
                    </a:lnTo>
                    <a:lnTo>
                      <a:pt x="196" y="526"/>
                    </a:lnTo>
                    <a:lnTo>
                      <a:pt x="209" y="520"/>
                    </a:lnTo>
                    <a:lnTo>
                      <a:pt x="222" y="492"/>
                    </a:lnTo>
                    <a:lnTo>
                      <a:pt x="230" y="500"/>
                    </a:lnTo>
                    <a:lnTo>
                      <a:pt x="245" y="482"/>
                    </a:lnTo>
                    <a:lnTo>
                      <a:pt x="247" y="482"/>
                    </a:lnTo>
                    <a:lnTo>
                      <a:pt x="268" y="463"/>
                    </a:lnTo>
                    <a:lnTo>
                      <a:pt x="280" y="461"/>
                    </a:lnTo>
                    <a:lnTo>
                      <a:pt x="296" y="461"/>
                    </a:lnTo>
                    <a:lnTo>
                      <a:pt x="306" y="461"/>
                    </a:lnTo>
                    <a:lnTo>
                      <a:pt x="298" y="435"/>
                    </a:lnTo>
                    <a:lnTo>
                      <a:pt x="293" y="415"/>
                    </a:lnTo>
                    <a:lnTo>
                      <a:pt x="290" y="372"/>
                    </a:lnTo>
                    <a:lnTo>
                      <a:pt x="314" y="370"/>
                    </a:lnTo>
                    <a:lnTo>
                      <a:pt x="326" y="362"/>
                    </a:lnTo>
                    <a:lnTo>
                      <a:pt x="320" y="380"/>
                    </a:lnTo>
                    <a:lnTo>
                      <a:pt x="329" y="391"/>
                    </a:lnTo>
                    <a:lnTo>
                      <a:pt x="340" y="407"/>
                    </a:lnTo>
                    <a:lnTo>
                      <a:pt x="347" y="417"/>
                    </a:lnTo>
                    <a:lnTo>
                      <a:pt x="374" y="415"/>
                    </a:lnTo>
                    <a:lnTo>
                      <a:pt x="399" y="378"/>
                    </a:lnTo>
                    <a:lnTo>
                      <a:pt x="416" y="360"/>
                    </a:lnTo>
                    <a:lnTo>
                      <a:pt x="426" y="346"/>
                    </a:lnTo>
                    <a:lnTo>
                      <a:pt x="439" y="332"/>
                    </a:lnTo>
                    <a:lnTo>
                      <a:pt x="451" y="310"/>
                    </a:lnTo>
                    <a:lnTo>
                      <a:pt x="461" y="318"/>
                    </a:lnTo>
                    <a:lnTo>
                      <a:pt x="461" y="306"/>
                    </a:lnTo>
                    <a:lnTo>
                      <a:pt x="467" y="299"/>
                    </a:lnTo>
                    <a:lnTo>
                      <a:pt x="485" y="304"/>
                    </a:lnTo>
                    <a:lnTo>
                      <a:pt x="515" y="336"/>
                    </a:lnTo>
                    <a:lnTo>
                      <a:pt x="510" y="245"/>
                    </a:lnTo>
                    <a:lnTo>
                      <a:pt x="483" y="287"/>
                    </a:lnTo>
                    <a:lnTo>
                      <a:pt x="462" y="283"/>
                    </a:lnTo>
                    <a:lnTo>
                      <a:pt x="458" y="259"/>
                    </a:lnTo>
                    <a:lnTo>
                      <a:pt x="458" y="245"/>
                    </a:lnTo>
                    <a:lnTo>
                      <a:pt x="451" y="239"/>
                    </a:lnTo>
                    <a:lnTo>
                      <a:pt x="467" y="217"/>
                    </a:lnTo>
                    <a:lnTo>
                      <a:pt x="477" y="204"/>
                    </a:lnTo>
                    <a:lnTo>
                      <a:pt x="488" y="198"/>
                    </a:lnTo>
                    <a:lnTo>
                      <a:pt x="496" y="196"/>
                    </a:lnTo>
                    <a:lnTo>
                      <a:pt x="502" y="184"/>
                    </a:lnTo>
                    <a:lnTo>
                      <a:pt x="510" y="180"/>
                    </a:lnTo>
                    <a:lnTo>
                      <a:pt x="519" y="180"/>
                    </a:lnTo>
                    <a:lnTo>
                      <a:pt x="502" y="158"/>
                    </a:lnTo>
                    <a:lnTo>
                      <a:pt x="483" y="162"/>
                    </a:lnTo>
                    <a:lnTo>
                      <a:pt x="470" y="162"/>
                    </a:lnTo>
                    <a:lnTo>
                      <a:pt x="461" y="156"/>
                    </a:lnTo>
                    <a:lnTo>
                      <a:pt x="461" y="170"/>
                    </a:lnTo>
                    <a:lnTo>
                      <a:pt x="451" y="186"/>
                    </a:lnTo>
                    <a:lnTo>
                      <a:pt x="437" y="212"/>
                    </a:lnTo>
                    <a:lnTo>
                      <a:pt x="423" y="221"/>
                    </a:lnTo>
                    <a:lnTo>
                      <a:pt x="413" y="221"/>
                    </a:lnTo>
                    <a:lnTo>
                      <a:pt x="409" y="239"/>
                    </a:lnTo>
                    <a:lnTo>
                      <a:pt x="409" y="245"/>
                    </a:lnTo>
                    <a:lnTo>
                      <a:pt x="401" y="253"/>
                    </a:lnTo>
                    <a:lnTo>
                      <a:pt x="410" y="283"/>
                    </a:lnTo>
                    <a:lnTo>
                      <a:pt x="416" y="299"/>
                    </a:lnTo>
                    <a:lnTo>
                      <a:pt x="404" y="322"/>
                    </a:lnTo>
                    <a:lnTo>
                      <a:pt x="391" y="336"/>
                    </a:lnTo>
                    <a:lnTo>
                      <a:pt x="386" y="360"/>
                    </a:lnTo>
                    <a:lnTo>
                      <a:pt x="378" y="378"/>
                    </a:lnTo>
                    <a:lnTo>
                      <a:pt x="371" y="378"/>
                    </a:lnTo>
                    <a:lnTo>
                      <a:pt x="358" y="380"/>
                    </a:lnTo>
                    <a:lnTo>
                      <a:pt x="347" y="387"/>
                    </a:lnTo>
                    <a:lnTo>
                      <a:pt x="342" y="384"/>
                    </a:lnTo>
                    <a:lnTo>
                      <a:pt x="342" y="372"/>
                    </a:lnTo>
                    <a:lnTo>
                      <a:pt x="340" y="352"/>
                    </a:lnTo>
                    <a:lnTo>
                      <a:pt x="329" y="352"/>
                    </a:lnTo>
                    <a:lnTo>
                      <a:pt x="325" y="338"/>
                    </a:lnTo>
                    <a:lnTo>
                      <a:pt x="326" y="322"/>
                    </a:lnTo>
                    <a:lnTo>
                      <a:pt x="328" y="310"/>
                    </a:lnTo>
                    <a:lnTo>
                      <a:pt x="326" y="306"/>
                    </a:lnTo>
                    <a:lnTo>
                      <a:pt x="318" y="310"/>
                    </a:lnTo>
                    <a:lnTo>
                      <a:pt x="314" y="310"/>
                    </a:lnTo>
                    <a:lnTo>
                      <a:pt x="307" y="308"/>
                    </a:lnTo>
                    <a:lnTo>
                      <a:pt x="304" y="306"/>
                    </a:lnTo>
                    <a:lnTo>
                      <a:pt x="293" y="316"/>
                    </a:lnTo>
                    <a:lnTo>
                      <a:pt x="283" y="328"/>
                    </a:lnTo>
                    <a:lnTo>
                      <a:pt x="274" y="342"/>
                    </a:lnTo>
                    <a:lnTo>
                      <a:pt x="252" y="338"/>
                    </a:lnTo>
                    <a:lnTo>
                      <a:pt x="238" y="336"/>
                    </a:lnTo>
                    <a:lnTo>
                      <a:pt x="226" y="324"/>
                    </a:lnTo>
                    <a:lnTo>
                      <a:pt x="226" y="316"/>
                    </a:lnTo>
                    <a:lnTo>
                      <a:pt x="233" y="306"/>
                    </a:lnTo>
                    <a:lnTo>
                      <a:pt x="241" y="299"/>
                    </a:lnTo>
                    <a:lnTo>
                      <a:pt x="247" y="289"/>
                    </a:lnTo>
                    <a:lnTo>
                      <a:pt x="233" y="295"/>
                    </a:lnTo>
                    <a:lnTo>
                      <a:pt x="226" y="281"/>
                    </a:lnTo>
                    <a:lnTo>
                      <a:pt x="226" y="273"/>
                    </a:lnTo>
                    <a:lnTo>
                      <a:pt x="247" y="271"/>
                    </a:lnTo>
                    <a:lnTo>
                      <a:pt x="266" y="269"/>
                    </a:lnTo>
                    <a:lnTo>
                      <a:pt x="253" y="261"/>
                    </a:lnTo>
                    <a:lnTo>
                      <a:pt x="236" y="263"/>
                    </a:lnTo>
                    <a:lnTo>
                      <a:pt x="236" y="249"/>
                    </a:lnTo>
                    <a:lnTo>
                      <a:pt x="244" y="239"/>
                    </a:lnTo>
                    <a:lnTo>
                      <a:pt x="261" y="227"/>
                    </a:lnTo>
                    <a:lnTo>
                      <a:pt x="268" y="217"/>
                    </a:lnTo>
                    <a:lnTo>
                      <a:pt x="274" y="213"/>
                    </a:lnTo>
                    <a:lnTo>
                      <a:pt x="288" y="212"/>
                    </a:lnTo>
                    <a:lnTo>
                      <a:pt x="299" y="213"/>
                    </a:lnTo>
                    <a:lnTo>
                      <a:pt x="306" y="217"/>
                    </a:lnTo>
                    <a:lnTo>
                      <a:pt x="315" y="212"/>
                    </a:lnTo>
                    <a:lnTo>
                      <a:pt x="306" y="208"/>
                    </a:lnTo>
                    <a:lnTo>
                      <a:pt x="306" y="188"/>
                    </a:lnTo>
                    <a:lnTo>
                      <a:pt x="333" y="166"/>
                    </a:lnTo>
                    <a:lnTo>
                      <a:pt x="347" y="150"/>
                    </a:lnTo>
                    <a:lnTo>
                      <a:pt x="355" y="148"/>
                    </a:lnTo>
                    <a:lnTo>
                      <a:pt x="352" y="140"/>
                    </a:lnTo>
                    <a:lnTo>
                      <a:pt x="364" y="123"/>
                    </a:lnTo>
                    <a:lnTo>
                      <a:pt x="378" y="101"/>
                    </a:lnTo>
                    <a:lnTo>
                      <a:pt x="394" y="89"/>
                    </a:lnTo>
                    <a:lnTo>
                      <a:pt x="382" y="79"/>
                    </a:lnTo>
                    <a:lnTo>
                      <a:pt x="415" y="57"/>
                    </a:lnTo>
                    <a:lnTo>
                      <a:pt x="429" y="59"/>
                    </a:lnTo>
                    <a:lnTo>
                      <a:pt x="426" y="47"/>
                    </a:lnTo>
                    <a:lnTo>
                      <a:pt x="454" y="45"/>
                    </a:lnTo>
                    <a:lnTo>
                      <a:pt x="507" y="4"/>
                    </a:lnTo>
                    <a:lnTo>
                      <a:pt x="515" y="0"/>
                    </a:lnTo>
                    <a:lnTo>
                      <a:pt x="505" y="30"/>
                    </a:lnTo>
                    <a:lnTo>
                      <a:pt x="518" y="14"/>
                    </a:lnTo>
                    <a:lnTo>
                      <a:pt x="532" y="10"/>
                    </a:lnTo>
                    <a:lnTo>
                      <a:pt x="529" y="22"/>
                    </a:lnTo>
                    <a:lnTo>
                      <a:pt x="570" y="6"/>
                    </a:lnTo>
                    <a:lnTo>
                      <a:pt x="591" y="20"/>
                    </a:lnTo>
                    <a:lnTo>
                      <a:pt x="562" y="32"/>
                    </a:lnTo>
                    <a:lnTo>
                      <a:pt x="572" y="47"/>
                    </a:lnTo>
                    <a:lnTo>
                      <a:pt x="613" y="45"/>
                    </a:lnTo>
                    <a:lnTo>
                      <a:pt x="671" y="67"/>
                    </a:lnTo>
                    <a:lnTo>
                      <a:pt x="667" y="93"/>
                    </a:lnTo>
                    <a:lnTo>
                      <a:pt x="643" y="115"/>
                    </a:lnTo>
                    <a:lnTo>
                      <a:pt x="606" y="128"/>
                    </a:lnTo>
                    <a:lnTo>
                      <a:pt x="600" y="156"/>
                    </a:lnTo>
                    <a:lnTo>
                      <a:pt x="602" y="180"/>
                    </a:lnTo>
                    <a:lnTo>
                      <a:pt x="613" y="186"/>
                    </a:lnTo>
                    <a:lnTo>
                      <a:pt x="614" y="198"/>
                    </a:lnTo>
                    <a:lnTo>
                      <a:pt x="618" y="204"/>
                    </a:lnTo>
                    <a:lnTo>
                      <a:pt x="625" y="208"/>
                    </a:lnTo>
                    <a:lnTo>
                      <a:pt x="629" y="223"/>
                    </a:lnTo>
                    <a:lnTo>
                      <a:pt x="640" y="241"/>
                    </a:lnTo>
                    <a:lnTo>
                      <a:pt x="640" y="249"/>
                    </a:lnTo>
                    <a:lnTo>
                      <a:pt x="652" y="249"/>
                    </a:lnTo>
                    <a:lnTo>
                      <a:pt x="657" y="253"/>
                    </a:lnTo>
                    <a:lnTo>
                      <a:pt x="667" y="259"/>
                    </a:lnTo>
                    <a:lnTo>
                      <a:pt x="673" y="251"/>
                    </a:lnTo>
                    <a:lnTo>
                      <a:pt x="679" y="239"/>
                    </a:lnTo>
                    <a:lnTo>
                      <a:pt x="682" y="231"/>
                    </a:lnTo>
                    <a:lnTo>
                      <a:pt x="694" y="235"/>
                    </a:lnTo>
                    <a:lnTo>
                      <a:pt x="705" y="217"/>
                    </a:lnTo>
                    <a:lnTo>
                      <a:pt x="705" y="206"/>
                    </a:lnTo>
                    <a:lnTo>
                      <a:pt x="709" y="196"/>
                    </a:lnTo>
                    <a:lnTo>
                      <a:pt x="711" y="188"/>
                    </a:lnTo>
                    <a:lnTo>
                      <a:pt x="735" y="180"/>
                    </a:lnTo>
                    <a:lnTo>
                      <a:pt x="755" y="172"/>
                    </a:lnTo>
                    <a:lnTo>
                      <a:pt x="782" y="162"/>
                    </a:lnTo>
                    <a:lnTo>
                      <a:pt x="812" y="170"/>
                    </a:lnTo>
                    <a:lnTo>
                      <a:pt x="842" y="170"/>
                    </a:lnTo>
                    <a:lnTo>
                      <a:pt x="893" y="170"/>
                    </a:lnTo>
                    <a:lnTo>
                      <a:pt x="901" y="107"/>
                    </a:lnTo>
                    <a:lnTo>
                      <a:pt x="928" y="111"/>
                    </a:lnTo>
                    <a:lnTo>
                      <a:pt x="949" y="158"/>
                    </a:lnTo>
                    <a:lnTo>
                      <a:pt x="953" y="117"/>
                    </a:lnTo>
                    <a:lnTo>
                      <a:pt x="1045" y="6"/>
                    </a:lnTo>
                    <a:lnTo>
                      <a:pt x="1082" y="6"/>
                    </a:lnTo>
                    <a:lnTo>
                      <a:pt x="1114" y="30"/>
                    </a:lnTo>
                    <a:lnTo>
                      <a:pt x="1155" y="28"/>
                    </a:lnTo>
                    <a:lnTo>
                      <a:pt x="1212" y="67"/>
                    </a:lnTo>
                    <a:lnTo>
                      <a:pt x="1277" y="89"/>
                    </a:lnTo>
                    <a:lnTo>
                      <a:pt x="1323" y="85"/>
                    </a:lnTo>
                    <a:lnTo>
                      <a:pt x="1383" y="111"/>
                    </a:lnTo>
                    <a:lnTo>
                      <a:pt x="1434" y="111"/>
                    </a:lnTo>
                    <a:lnTo>
                      <a:pt x="1457" y="93"/>
                    </a:lnTo>
                    <a:lnTo>
                      <a:pt x="1514" y="93"/>
                    </a:lnTo>
                    <a:lnTo>
                      <a:pt x="1545" y="113"/>
                    </a:lnTo>
                    <a:lnTo>
                      <a:pt x="1621" y="113"/>
                    </a:lnTo>
                    <a:lnTo>
                      <a:pt x="1685" y="148"/>
                    </a:lnTo>
                    <a:lnTo>
                      <a:pt x="1804" y="142"/>
                    </a:lnTo>
                    <a:lnTo>
                      <a:pt x="1993" y="158"/>
                    </a:lnTo>
                    <a:lnTo>
                      <a:pt x="2083" y="206"/>
                    </a:lnTo>
                    <a:lnTo>
                      <a:pt x="2159" y="235"/>
                    </a:lnTo>
                    <a:lnTo>
                      <a:pt x="2208" y="261"/>
                    </a:lnTo>
                    <a:lnTo>
                      <a:pt x="2194" y="269"/>
                    </a:lnTo>
                    <a:lnTo>
                      <a:pt x="2159" y="249"/>
                    </a:lnTo>
                    <a:lnTo>
                      <a:pt x="2081" y="241"/>
                    </a:lnTo>
                    <a:lnTo>
                      <a:pt x="2103" y="261"/>
                    </a:lnTo>
                    <a:lnTo>
                      <a:pt x="2137" y="271"/>
                    </a:lnTo>
                    <a:lnTo>
                      <a:pt x="2127" y="304"/>
                    </a:lnTo>
                    <a:lnTo>
                      <a:pt x="2091" y="324"/>
                    </a:lnTo>
                    <a:lnTo>
                      <a:pt x="2078" y="356"/>
                    </a:lnTo>
                    <a:lnTo>
                      <a:pt x="2127" y="387"/>
                    </a:lnTo>
                    <a:lnTo>
                      <a:pt x="2162" y="427"/>
                    </a:lnTo>
                    <a:lnTo>
                      <a:pt x="2179" y="484"/>
                    </a:lnTo>
                    <a:lnTo>
                      <a:pt x="2157" y="490"/>
                    </a:lnTo>
                    <a:lnTo>
                      <a:pt x="2108" y="472"/>
                    </a:lnTo>
                    <a:lnTo>
                      <a:pt x="2059" y="429"/>
                    </a:lnTo>
                    <a:lnTo>
                      <a:pt x="2039" y="407"/>
                    </a:lnTo>
                    <a:lnTo>
                      <a:pt x="2026" y="378"/>
                    </a:lnTo>
                    <a:lnTo>
                      <a:pt x="2015" y="332"/>
                    </a:lnTo>
                    <a:lnTo>
                      <a:pt x="1994" y="316"/>
                    </a:lnTo>
                    <a:lnTo>
                      <a:pt x="1975" y="314"/>
                    </a:lnTo>
                    <a:lnTo>
                      <a:pt x="1959" y="318"/>
                    </a:lnTo>
                    <a:lnTo>
                      <a:pt x="1978" y="354"/>
                    </a:lnTo>
                    <a:lnTo>
                      <a:pt x="1929" y="360"/>
                    </a:lnTo>
                    <a:lnTo>
                      <a:pt x="1907" y="342"/>
                    </a:lnTo>
                    <a:lnTo>
                      <a:pt x="1864" y="352"/>
                    </a:lnTo>
                    <a:lnTo>
                      <a:pt x="1833" y="380"/>
                    </a:lnTo>
                    <a:lnTo>
                      <a:pt x="1833" y="393"/>
                    </a:lnTo>
                    <a:lnTo>
                      <a:pt x="1845" y="419"/>
                    </a:lnTo>
                    <a:lnTo>
                      <a:pt x="1896" y="427"/>
                    </a:lnTo>
                    <a:lnTo>
                      <a:pt x="1936" y="457"/>
                    </a:lnTo>
                    <a:lnTo>
                      <a:pt x="2004" y="540"/>
                    </a:lnTo>
                    <a:lnTo>
                      <a:pt x="2032" y="595"/>
                    </a:lnTo>
                    <a:lnTo>
                      <a:pt x="2037" y="654"/>
                    </a:lnTo>
                    <a:lnTo>
                      <a:pt x="2031" y="702"/>
                    </a:lnTo>
                    <a:lnTo>
                      <a:pt x="2015" y="702"/>
                    </a:lnTo>
                    <a:lnTo>
                      <a:pt x="1996" y="684"/>
                    </a:lnTo>
                    <a:lnTo>
                      <a:pt x="1970" y="706"/>
                    </a:lnTo>
                    <a:lnTo>
                      <a:pt x="1944" y="725"/>
                    </a:lnTo>
                    <a:lnTo>
                      <a:pt x="1940" y="763"/>
                    </a:lnTo>
                    <a:lnTo>
                      <a:pt x="1967" y="805"/>
                    </a:lnTo>
                    <a:lnTo>
                      <a:pt x="1950" y="836"/>
                    </a:lnTo>
                    <a:lnTo>
                      <a:pt x="1944" y="892"/>
                    </a:lnTo>
                    <a:lnTo>
                      <a:pt x="1978" y="927"/>
                    </a:lnTo>
                    <a:lnTo>
                      <a:pt x="2016" y="937"/>
                    </a:lnTo>
                    <a:lnTo>
                      <a:pt x="2056" y="975"/>
                    </a:lnTo>
                    <a:lnTo>
                      <a:pt x="2091" y="1026"/>
                    </a:lnTo>
                    <a:lnTo>
                      <a:pt x="2092" y="1101"/>
                    </a:lnTo>
                    <a:lnTo>
                      <a:pt x="2081" y="1137"/>
                    </a:lnTo>
                    <a:lnTo>
                      <a:pt x="2045" y="1166"/>
                    </a:lnTo>
                    <a:lnTo>
                      <a:pt x="2001" y="1182"/>
                    </a:lnTo>
                    <a:lnTo>
                      <a:pt x="1972" y="1204"/>
                    </a:lnTo>
                    <a:lnTo>
                      <a:pt x="1956" y="1192"/>
                    </a:lnTo>
                    <a:lnTo>
                      <a:pt x="1942" y="1204"/>
                    </a:lnTo>
                    <a:lnTo>
                      <a:pt x="1937" y="1259"/>
                    </a:lnTo>
                    <a:lnTo>
                      <a:pt x="1948" y="1293"/>
                    </a:lnTo>
                    <a:lnTo>
                      <a:pt x="1993" y="1330"/>
                    </a:lnTo>
                    <a:lnTo>
                      <a:pt x="2010" y="1368"/>
                    </a:lnTo>
                    <a:lnTo>
                      <a:pt x="2024" y="1390"/>
                    </a:lnTo>
                    <a:lnTo>
                      <a:pt x="2020" y="1431"/>
                    </a:lnTo>
                    <a:lnTo>
                      <a:pt x="1993" y="1463"/>
                    </a:lnTo>
                    <a:lnTo>
                      <a:pt x="1963" y="1463"/>
                    </a:lnTo>
                    <a:lnTo>
                      <a:pt x="1913" y="1415"/>
                    </a:lnTo>
                    <a:lnTo>
                      <a:pt x="1879" y="1398"/>
                    </a:lnTo>
                    <a:lnTo>
                      <a:pt x="1864" y="1388"/>
                    </a:lnTo>
                    <a:lnTo>
                      <a:pt x="1850" y="1413"/>
                    </a:lnTo>
                    <a:lnTo>
                      <a:pt x="1855" y="1449"/>
                    </a:lnTo>
                    <a:lnTo>
                      <a:pt x="1868" y="1477"/>
                    </a:lnTo>
                    <a:lnTo>
                      <a:pt x="1875" y="1518"/>
                    </a:lnTo>
                    <a:lnTo>
                      <a:pt x="1906" y="1534"/>
                    </a:lnTo>
                    <a:lnTo>
                      <a:pt x="1896" y="1556"/>
                    </a:lnTo>
                    <a:lnTo>
                      <a:pt x="1898" y="1589"/>
                    </a:lnTo>
                    <a:lnTo>
                      <a:pt x="1907" y="1622"/>
                    </a:lnTo>
                    <a:lnTo>
                      <a:pt x="1887" y="1619"/>
                    </a:lnTo>
                    <a:lnTo>
                      <a:pt x="1864" y="1581"/>
                    </a:lnTo>
                    <a:lnTo>
                      <a:pt x="1868" y="1542"/>
                    </a:lnTo>
                    <a:lnTo>
                      <a:pt x="1860" y="1528"/>
                    </a:lnTo>
                    <a:lnTo>
                      <a:pt x="1850" y="1483"/>
                    </a:lnTo>
                    <a:lnTo>
                      <a:pt x="1841" y="1471"/>
                    </a:lnTo>
                    <a:lnTo>
                      <a:pt x="1837" y="1408"/>
                    </a:lnTo>
                    <a:lnTo>
                      <a:pt x="1823" y="1368"/>
                    </a:lnTo>
                    <a:lnTo>
                      <a:pt x="1798" y="1332"/>
                    </a:lnTo>
                    <a:lnTo>
                      <a:pt x="1754" y="1313"/>
                    </a:lnTo>
                    <a:lnTo>
                      <a:pt x="1722" y="1279"/>
                    </a:lnTo>
                    <a:lnTo>
                      <a:pt x="1708" y="1255"/>
                    </a:lnTo>
                    <a:lnTo>
                      <a:pt x="1685" y="1228"/>
                    </a:lnTo>
                    <a:lnTo>
                      <a:pt x="1651" y="1164"/>
                    </a:lnTo>
                    <a:lnTo>
                      <a:pt x="1621" y="1168"/>
                    </a:lnTo>
                    <a:lnTo>
                      <a:pt x="1581" y="1200"/>
                    </a:lnTo>
                    <a:lnTo>
                      <a:pt x="1562" y="1224"/>
                    </a:lnTo>
                    <a:lnTo>
                      <a:pt x="1527" y="1273"/>
                    </a:lnTo>
                    <a:lnTo>
                      <a:pt x="1500" y="1322"/>
                    </a:lnTo>
                    <a:lnTo>
                      <a:pt x="1491" y="1340"/>
                    </a:lnTo>
                    <a:lnTo>
                      <a:pt x="1500" y="1400"/>
                    </a:lnTo>
                    <a:lnTo>
                      <a:pt x="1499" y="1459"/>
                    </a:lnTo>
                    <a:lnTo>
                      <a:pt x="1465" y="1498"/>
                    </a:lnTo>
                    <a:lnTo>
                      <a:pt x="1448" y="1500"/>
                    </a:lnTo>
                    <a:lnTo>
                      <a:pt x="1410" y="1417"/>
                    </a:lnTo>
                    <a:lnTo>
                      <a:pt x="1380" y="1358"/>
                    </a:lnTo>
                    <a:lnTo>
                      <a:pt x="1318" y="1247"/>
                    </a:lnTo>
                    <a:lnTo>
                      <a:pt x="1316" y="1204"/>
                    </a:lnTo>
                    <a:lnTo>
                      <a:pt x="1302" y="1184"/>
                    </a:lnTo>
                    <a:lnTo>
                      <a:pt x="1293" y="1212"/>
                    </a:lnTo>
                    <a:lnTo>
                      <a:pt x="1240" y="1149"/>
                    </a:lnTo>
                    <a:lnTo>
                      <a:pt x="1169" y="1101"/>
                    </a:lnTo>
                    <a:lnTo>
                      <a:pt x="1125" y="1111"/>
                    </a:lnTo>
                    <a:lnTo>
                      <a:pt x="1061" y="1107"/>
                    </a:lnTo>
                    <a:lnTo>
                      <a:pt x="1031" y="1071"/>
                    </a:lnTo>
                    <a:lnTo>
                      <a:pt x="998" y="1075"/>
                    </a:lnTo>
                    <a:lnTo>
                      <a:pt x="949" y="1062"/>
                    </a:lnTo>
                    <a:lnTo>
                      <a:pt x="849" y="943"/>
                    </a:lnTo>
                    <a:lnTo>
                      <a:pt x="854" y="990"/>
                    </a:lnTo>
                    <a:lnTo>
                      <a:pt x="884" y="1058"/>
                    </a:lnTo>
                    <a:lnTo>
                      <a:pt x="918" y="1107"/>
                    </a:lnTo>
                    <a:lnTo>
                      <a:pt x="955" y="1131"/>
                    </a:lnTo>
                    <a:lnTo>
                      <a:pt x="994" y="1111"/>
                    </a:lnTo>
                    <a:lnTo>
                      <a:pt x="1028" y="1111"/>
                    </a:lnTo>
                    <a:lnTo>
                      <a:pt x="1070" y="1154"/>
                    </a:lnTo>
                    <a:lnTo>
                      <a:pt x="1094" y="1186"/>
                    </a:lnTo>
                    <a:lnTo>
                      <a:pt x="1089" y="1206"/>
                    </a:lnTo>
                    <a:lnTo>
                      <a:pt x="1017" y="1301"/>
                    </a:lnTo>
                    <a:lnTo>
                      <a:pt x="969" y="1334"/>
                    </a:lnTo>
                    <a:lnTo>
                      <a:pt x="868" y="1384"/>
                    </a:lnTo>
                    <a:lnTo>
                      <a:pt x="838" y="1398"/>
                    </a:lnTo>
                    <a:lnTo>
                      <a:pt x="820" y="1384"/>
                    </a:lnTo>
                    <a:lnTo>
                      <a:pt x="814" y="1362"/>
                    </a:lnTo>
                    <a:lnTo>
                      <a:pt x="812" y="1334"/>
                    </a:lnTo>
                    <a:lnTo>
                      <a:pt x="804" y="1307"/>
                    </a:lnTo>
                    <a:lnTo>
                      <a:pt x="790" y="1285"/>
                    </a:lnTo>
                    <a:lnTo>
                      <a:pt x="778" y="1265"/>
                    </a:lnTo>
                    <a:lnTo>
                      <a:pt x="760" y="1237"/>
                    </a:lnTo>
                    <a:lnTo>
                      <a:pt x="749" y="1220"/>
                    </a:lnTo>
                    <a:lnTo>
                      <a:pt x="741" y="1196"/>
                    </a:lnTo>
                    <a:lnTo>
                      <a:pt x="727" y="1176"/>
                    </a:lnTo>
                    <a:lnTo>
                      <a:pt x="705" y="1127"/>
                    </a:lnTo>
                    <a:lnTo>
                      <a:pt x="694" y="1107"/>
                    </a:lnTo>
                    <a:lnTo>
                      <a:pt x="676" y="1079"/>
                    </a:lnTo>
                    <a:lnTo>
                      <a:pt x="651" y="1040"/>
                    </a:lnTo>
                    <a:lnTo>
                      <a:pt x="637" y="1018"/>
                    </a:lnTo>
                    <a:lnTo>
                      <a:pt x="624" y="1002"/>
                    </a:lnTo>
                    <a:lnTo>
                      <a:pt x="610" y="971"/>
                    </a:lnTo>
                    <a:lnTo>
                      <a:pt x="652" y="941"/>
                    </a:lnTo>
                    <a:lnTo>
                      <a:pt x="671" y="874"/>
                    </a:lnTo>
                    <a:lnTo>
                      <a:pt x="630" y="858"/>
                    </a:lnTo>
                    <a:lnTo>
                      <a:pt x="573" y="868"/>
                    </a:lnTo>
                    <a:lnTo>
                      <a:pt x="562" y="860"/>
                    </a:lnTo>
                    <a:lnTo>
                      <a:pt x="556" y="860"/>
                    </a:lnTo>
                    <a:lnTo>
                      <a:pt x="548" y="860"/>
                    </a:lnTo>
                    <a:lnTo>
                      <a:pt x="542" y="860"/>
                    </a:lnTo>
                    <a:lnTo>
                      <a:pt x="540" y="846"/>
                    </a:lnTo>
                    <a:lnTo>
                      <a:pt x="535" y="836"/>
                    </a:lnTo>
                    <a:lnTo>
                      <a:pt x="535" y="816"/>
                    </a:lnTo>
                    <a:lnTo>
                      <a:pt x="526" y="807"/>
                    </a:lnTo>
                    <a:lnTo>
                      <a:pt x="524" y="795"/>
                    </a:lnTo>
                    <a:lnTo>
                      <a:pt x="518" y="791"/>
                    </a:lnTo>
                    <a:lnTo>
                      <a:pt x="511" y="781"/>
                    </a:lnTo>
                    <a:lnTo>
                      <a:pt x="510" y="771"/>
                    </a:lnTo>
                    <a:lnTo>
                      <a:pt x="505" y="761"/>
                    </a:lnTo>
                    <a:lnTo>
                      <a:pt x="502" y="751"/>
                    </a:lnTo>
                    <a:lnTo>
                      <a:pt x="489" y="751"/>
                    </a:lnTo>
                    <a:lnTo>
                      <a:pt x="481" y="751"/>
                    </a:lnTo>
                    <a:lnTo>
                      <a:pt x="477" y="751"/>
                    </a:lnTo>
                    <a:lnTo>
                      <a:pt x="475" y="769"/>
                    </a:lnTo>
                    <a:lnTo>
                      <a:pt x="475" y="781"/>
                    </a:lnTo>
                    <a:lnTo>
                      <a:pt x="475" y="797"/>
                    </a:lnTo>
                    <a:lnTo>
                      <a:pt x="475" y="812"/>
                    </a:lnTo>
                    <a:lnTo>
                      <a:pt x="475" y="822"/>
                    </a:lnTo>
                    <a:lnTo>
                      <a:pt x="466" y="826"/>
                    </a:lnTo>
                    <a:lnTo>
                      <a:pt x="458" y="836"/>
                    </a:lnTo>
                    <a:lnTo>
                      <a:pt x="445" y="822"/>
                    </a:lnTo>
                    <a:lnTo>
                      <a:pt x="437" y="803"/>
                    </a:lnTo>
                    <a:lnTo>
                      <a:pt x="439" y="779"/>
                    </a:lnTo>
                    <a:lnTo>
                      <a:pt x="426" y="743"/>
                    </a:lnTo>
                    <a:lnTo>
                      <a:pt x="421" y="724"/>
                    </a:lnTo>
                    <a:lnTo>
                      <a:pt x="407" y="712"/>
                    </a:lnTo>
                    <a:lnTo>
                      <a:pt x="391" y="698"/>
                    </a:lnTo>
                    <a:lnTo>
                      <a:pt x="382" y="682"/>
                    </a:lnTo>
                    <a:lnTo>
                      <a:pt x="377" y="668"/>
                    </a:lnTo>
                    <a:lnTo>
                      <a:pt x="363" y="666"/>
                    </a:lnTo>
                    <a:lnTo>
                      <a:pt x="358" y="658"/>
                    </a:lnTo>
                    <a:lnTo>
                      <a:pt x="348" y="658"/>
                    </a:lnTo>
                    <a:lnTo>
                      <a:pt x="340" y="670"/>
                    </a:lnTo>
                    <a:lnTo>
                      <a:pt x="333" y="682"/>
                    </a:lnTo>
                    <a:lnTo>
                      <a:pt x="350" y="694"/>
                    </a:lnTo>
                    <a:lnTo>
                      <a:pt x="359" y="712"/>
                    </a:lnTo>
                    <a:lnTo>
                      <a:pt x="378" y="733"/>
                    </a:lnTo>
                    <a:lnTo>
                      <a:pt x="386" y="743"/>
                    </a:lnTo>
                    <a:lnTo>
                      <a:pt x="401" y="751"/>
                    </a:lnTo>
                    <a:lnTo>
                      <a:pt x="410" y="771"/>
                    </a:lnTo>
                    <a:lnTo>
                      <a:pt x="399" y="789"/>
                    </a:lnTo>
                    <a:lnTo>
                      <a:pt x="396" y="781"/>
                    </a:lnTo>
                    <a:lnTo>
                      <a:pt x="396" y="771"/>
                    </a:lnTo>
                    <a:lnTo>
                      <a:pt x="391" y="795"/>
                    </a:lnTo>
                    <a:lnTo>
                      <a:pt x="388" y="814"/>
                    </a:lnTo>
                    <a:lnTo>
                      <a:pt x="377" y="818"/>
                    </a:lnTo>
                    <a:lnTo>
                      <a:pt x="380" y="795"/>
                    </a:lnTo>
                    <a:lnTo>
                      <a:pt x="378" y="781"/>
                    </a:lnTo>
                    <a:lnTo>
                      <a:pt x="364" y="775"/>
                    </a:lnTo>
                    <a:lnTo>
                      <a:pt x="358" y="769"/>
                    </a:lnTo>
                    <a:lnTo>
                      <a:pt x="352" y="759"/>
                    </a:lnTo>
                    <a:lnTo>
                      <a:pt x="340" y="749"/>
                    </a:lnTo>
                    <a:lnTo>
                      <a:pt x="333" y="741"/>
                    </a:lnTo>
                    <a:lnTo>
                      <a:pt x="325" y="725"/>
                    </a:lnTo>
                    <a:lnTo>
                      <a:pt x="314" y="720"/>
                    </a:lnTo>
                    <a:lnTo>
                      <a:pt x="307" y="704"/>
                    </a:lnTo>
                    <a:lnTo>
                      <a:pt x="306" y="692"/>
                    </a:lnTo>
                    <a:lnTo>
                      <a:pt x="298" y="686"/>
                    </a:lnTo>
                    <a:lnTo>
                      <a:pt x="290" y="678"/>
                    </a:lnTo>
                    <a:lnTo>
                      <a:pt x="274" y="678"/>
                    </a:lnTo>
                    <a:lnTo>
                      <a:pt x="260" y="682"/>
                    </a:lnTo>
                    <a:lnTo>
                      <a:pt x="244" y="678"/>
                    </a:lnTo>
                    <a:lnTo>
                      <a:pt x="215" y="682"/>
                    </a:lnTo>
                    <a:lnTo>
                      <a:pt x="195" y="684"/>
                    </a:lnTo>
                    <a:lnTo>
                      <a:pt x="188" y="688"/>
                    </a:lnTo>
                    <a:lnTo>
                      <a:pt x="187" y="704"/>
                    </a:lnTo>
                    <a:lnTo>
                      <a:pt x="187" y="722"/>
                    </a:lnTo>
                    <a:lnTo>
                      <a:pt x="174" y="739"/>
                    </a:lnTo>
                    <a:lnTo>
                      <a:pt x="166" y="747"/>
                    </a:lnTo>
                    <a:lnTo>
                      <a:pt x="163" y="751"/>
                    </a:lnTo>
                    <a:lnTo>
                      <a:pt x="157" y="769"/>
                    </a:lnTo>
                    <a:lnTo>
                      <a:pt x="152" y="779"/>
                    </a:lnTo>
                    <a:lnTo>
                      <a:pt x="158" y="787"/>
                    </a:lnTo>
                    <a:lnTo>
                      <a:pt x="158" y="803"/>
                    </a:lnTo>
                    <a:lnTo>
                      <a:pt x="157" y="809"/>
                    </a:lnTo>
                    <a:lnTo>
                      <a:pt x="152" y="818"/>
                    </a:lnTo>
                    <a:lnTo>
                      <a:pt x="143" y="836"/>
                    </a:lnTo>
                    <a:lnTo>
                      <a:pt x="136" y="830"/>
                    </a:lnTo>
                    <a:lnTo>
                      <a:pt x="130" y="834"/>
                    </a:lnTo>
                    <a:lnTo>
                      <a:pt x="122" y="842"/>
                    </a:lnTo>
                    <a:lnTo>
                      <a:pt x="111" y="844"/>
                    </a:lnTo>
                    <a:lnTo>
                      <a:pt x="98" y="858"/>
                    </a:lnTo>
                    <a:lnTo>
                      <a:pt x="86" y="860"/>
                    </a:lnTo>
                    <a:lnTo>
                      <a:pt x="74" y="860"/>
                    </a:lnTo>
                    <a:lnTo>
                      <a:pt x="62" y="860"/>
                    </a:lnTo>
                    <a:lnTo>
                      <a:pt x="36" y="868"/>
                    </a:lnTo>
                    <a:lnTo>
                      <a:pt x="24" y="868"/>
                    </a:lnTo>
                    <a:lnTo>
                      <a:pt x="17" y="850"/>
                    </a:lnTo>
                    <a:lnTo>
                      <a:pt x="11" y="826"/>
                    </a:lnTo>
                    <a:lnTo>
                      <a:pt x="8" y="807"/>
                    </a:lnTo>
                    <a:lnTo>
                      <a:pt x="5" y="787"/>
                    </a:lnTo>
                    <a:lnTo>
                      <a:pt x="5" y="761"/>
                    </a:lnTo>
                    <a:lnTo>
                      <a:pt x="0" y="725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808080"/>
                </a:solidFill>
                <a:round/>
              </a:ln>
              <a:effectLst>
                <a:outerShdw dist="71785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5221440" y="1333440"/>
              <a:ext cx="3091680" cy="5177880"/>
              <a:chOff x="5221440" y="1333440"/>
              <a:chExt cx="3091680" cy="5177880"/>
            </a:xfrm>
          </p:grpSpPr>
          <p:sp>
            <p:nvSpPr>
              <p:cNvPr id="77" name=""/>
              <p:cNvSpPr/>
              <p:nvPr/>
            </p:nvSpPr>
            <p:spPr>
              <a:xfrm>
                <a:off x="5221440" y="1560960"/>
                <a:ext cx="2099520" cy="2429280"/>
              </a:xfrm>
              <a:custGeom>
                <a:avLst/>
                <a:gdLst/>
                <a:ahLst/>
                <a:rect l="l" t="t" r="r" b="b"/>
                <a:pathLst>
                  <a:path w="1316" h="1408">
                    <a:moveTo>
                      <a:pt x="0" y="361"/>
                    </a:moveTo>
                    <a:lnTo>
                      <a:pt x="62" y="314"/>
                    </a:lnTo>
                    <a:lnTo>
                      <a:pt x="98" y="294"/>
                    </a:lnTo>
                    <a:lnTo>
                      <a:pt x="105" y="264"/>
                    </a:lnTo>
                    <a:lnTo>
                      <a:pt x="76" y="247"/>
                    </a:lnTo>
                    <a:lnTo>
                      <a:pt x="75" y="211"/>
                    </a:lnTo>
                    <a:lnTo>
                      <a:pt x="87" y="201"/>
                    </a:lnTo>
                    <a:lnTo>
                      <a:pt x="84" y="185"/>
                    </a:lnTo>
                    <a:lnTo>
                      <a:pt x="133" y="182"/>
                    </a:lnTo>
                    <a:lnTo>
                      <a:pt x="146" y="154"/>
                    </a:lnTo>
                    <a:lnTo>
                      <a:pt x="148" y="128"/>
                    </a:lnTo>
                    <a:lnTo>
                      <a:pt x="187" y="120"/>
                    </a:lnTo>
                    <a:lnTo>
                      <a:pt x="192" y="95"/>
                    </a:lnTo>
                    <a:lnTo>
                      <a:pt x="154" y="89"/>
                    </a:lnTo>
                    <a:lnTo>
                      <a:pt x="171" y="71"/>
                    </a:lnTo>
                    <a:lnTo>
                      <a:pt x="235" y="71"/>
                    </a:lnTo>
                    <a:lnTo>
                      <a:pt x="252" y="49"/>
                    </a:lnTo>
                    <a:lnTo>
                      <a:pt x="279" y="47"/>
                    </a:lnTo>
                    <a:lnTo>
                      <a:pt x="295" y="30"/>
                    </a:lnTo>
                    <a:lnTo>
                      <a:pt x="314" y="61"/>
                    </a:lnTo>
                    <a:lnTo>
                      <a:pt x="394" y="55"/>
                    </a:lnTo>
                    <a:lnTo>
                      <a:pt x="430" y="85"/>
                    </a:lnTo>
                    <a:lnTo>
                      <a:pt x="548" y="77"/>
                    </a:lnTo>
                    <a:lnTo>
                      <a:pt x="565" y="63"/>
                    </a:lnTo>
                    <a:lnTo>
                      <a:pt x="610" y="89"/>
                    </a:lnTo>
                    <a:lnTo>
                      <a:pt x="657" y="111"/>
                    </a:lnTo>
                    <a:lnTo>
                      <a:pt x="678" y="101"/>
                    </a:lnTo>
                    <a:lnTo>
                      <a:pt x="691" y="89"/>
                    </a:lnTo>
                    <a:lnTo>
                      <a:pt x="731" y="95"/>
                    </a:lnTo>
                    <a:lnTo>
                      <a:pt x="704" y="77"/>
                    </a:lnTo>
                    <a:lnTo>
                      <a:pt x="680" y="81"/>
                    </a:lnTo>
                    <a:lnTo>
                      <a:pt x="645" y="85"/>
                    </a:lnTo>
                    <a:lnTo>
                      <a:pt x="625" y="61"/>
                    </a:lnTo>
                    <a:lnTo>
                      <a:pt x="606" y="47"/>
                    </a:lnTo>
                    <a:lnTo>
                      <a:pt x="606" y="26"/>
                    </a:lnTo>
                    <a:lnTo>
                      <a:pt x="613" y="2"/>
                    </a:lnTo>
                    <a:lnTo>
                      <a:pt x="629" y="0"/>
                    </a:lnTo>
                    <a:lnTo>
                      <a:pt x="651" y="20"/>
                    </a:lnTo>
                    <a:lnTo>
                      <a:pt x="657" y="10"/>
                    </a:lnTo>
                    <a:lnTo>
                      <a:pt x="674" y="0"/>
                    </a:lnTo>
                    <a:lnTo>
                      <a:pt x="696" y="16"/>
                    </a:lnTo>
                    <a:lnTo>
                      <a:pt x="709" y="2"/>
                    </a:lnTo>
                    <a:lnTo>
                      <a:pt x="720" y="22"/>
                    </a:lnTo>
                    <a:lnTo>
                      <a:pt x="723" y="37"/>
                    </a:lnTo>
                    <a:lnTo>
                      <a:pt x="755" y="55"/>
                    </a:lnTo>
                    <a:lnTo>
                      <a:pt x="742" y="71"/>
                    </a:lnTo>
                    <a:lnTo>
                      <a:pt x="742" y="91"/>
                    </a:lnTo>
                    <a:lnTo>
                      <a:pt x="797" y="95"/>
                    </a:lnTo>
                    <a:lnTo>
                      <a:pt x="812" y="71"/>
                    </a:lnTo>
                    <a:lnTo>
                      <a:pt x="801" y="57"/>
                    </a:lnTo>
                    <a:lnTo>
                      <a:pt x="777" y="61"/>
                    </a:lnTo>
                    <a:lnTo>
                      <a:pt x="783" y="30"/>
                    </a:lnTo>
                    <a:lnTo>
                      <a:pt x="831" y="47"/>
                    </a:lnTo>
                    <a:lnTo>
                      <a:pt x="842" y="67"/>
                    </a:lnTo>
                    <a:lnTo>
                      <a:pt x="882" y="67"/>
                    </a:lnTo>
                    <a:lnTo>
                      <a:pt x="923" y="93"/>
                    </a:lnTo>
                    <a:lnTo>
                      <a:pt x="942" y="89"/>
                    </a:lnTo>
                    <a:lnTo>
                      <a:pt x="964" y="111"/>
                    </a:lnTo>
                    <a:lnTo>
                      <a:pt x="942" y="140"/>
                    </a:lnTo>
                    <a:lnTo>
                      <a:pt x="924" y="118"/>
                    </a:lnTo>
                    <a:lnTo>
                      <a:pt x="912" y="126"/>
                    </a:lnTo>
                    <a:lnTo>
                      <a:pt x="894" y="144"/>
                    </a:lnTo>
                    <a:lnTo>
                      <a:pt x="866" y="158"/>
                    </a:lnTo>
                    <a:lnTo>
                      <a:pt x="880" y="182"/>
                    </a:lnTo>
                    <a:lnTo>
                      <a:pt x="856" y="184"/>
                    </a:lnTo>
                    <a:lnTo>
                      <a:pt x="836" y="213"/>
                    </a:lnTo>
                    <a:lnTo>
                      <a:pt x="815" y="251"/>
                    </a:lnTo>
                    <a:lnTo>
                      <a:pt x="845" y="284"/>
                    </a:lnTo>
                    <a:lnTo>
                      <a:pt x="871" y="322"/>
                    </a:lnTo>
                    <a:lnTo>
                      <a:pt x="917" y="326"/>
                    </a:lnTo>
                    <a:lnTo>
                      <a:pt x="956" y="322"/>
                    </a:lnTo>
                    <a:lnTo>
                      <a:pt x="975" y="341"/>
                    </a:lnTo>
                    <a:lnTo>
                      <a:pt x="967" y="351"/>
                    </a:lnTo>
                    <a:lnTo>
                      <a:pt x="955" y="371"/>
                    </a:lnTo>
                    <a:lnTo>
                      <a:pt x="972" y="407"/>
                    </a:lnTo>
                    <a:lnTo>
                      <a:pt x="978" y="432"/>
                    </a:lnTo>
                    <a:lnTo>
                      <a:pt x="1001" y="444"/>
                    </a:lnTo>
                    <a:lnTo>
                      <a:pt x="1031" y="422"/>
                    </a:lnTo>
                    <a:lnTo>
                      <a:pt x="1023" y="389"/>
                    </a:lnTo>
                    <a:lnTo>
                      <a:pt x="998" y="361"/>
                    </a:lnTo>
                    <a:lnTo>
                      <a:pt x="1028" y="330"/>
                    </a:lnTo>
                    <a:lnTo>
                      <a:pt x="1001" y="274"/>
                    </a:lnTo>
                    <a:lnTo>
                      <a:pt x="977" y="251"/>
                    </a:lnTo>
                    <a:lnTo>
                      <a:pt x="998" y="231"/>
                    </a:lnTo>
                    <a:lnTo>
                      <a:pt x="993" y="201"/>
                    </a:lnTo>
                    <a:lnTo>
                      <a:pt x="1007" y="184"/>
                    </a:lnTo>
                    <a:lnTo>
                      <a:pt x="1031" y="201"/>
                    </a:lnTo>
                    <a:lnTo>
                      <a:pt x="1088" y="266"/>
                    </a:lnTo>
                    <a:lnTo>
                      <a:pt x="1123" y="276"/>
                    </a:lnTo>
                    <a:lnTo>
                      <a:pt x="1132" y="259"/>
                    </a:lnTo>
                    <a:lnTo>
                      <a:pt x="1125" y="223"/>
                    </a:lnTo>
                    <a:lnTo>
                      <a:pt x="1145" y="229"/>
                    </a:lnTo>
                    <a:lnTo>
                      <a:pt x="1178" y="268"/>
                    </a:lnTo>
                    <a:lnTo>
                      <a:pt x="1185" y="292"/>
                    </a:lnTo>
                    <a:lnTo>
                      <a:pt x="1205" y="306"/>
                    </a:lnTo>
                    <a:lnTo>
                      <a:pt x="1245" y="324"/>
                    </a:lnTo>
                    <a:lnTo>
                      <a:pt x="1266" y="357"/>
                    </a:lnTo>
                    <a:lnTo>
                      <a:pt x="1296" y="379"/>
                    </a:lnTo>
                    <a:lnTo>
                      <a:pt x="1312" y="387"/>
                    </a:lnTo>
                    <a:lnTo>
                      <a:pt x="1315" y="407"/>
                    </a:lnTo>
                    <a:lnTo>
                      <a:pt x="1290" y="420"/>
                    </a:lnTo>
                    <a:lnTo>
                      <a:pt x="1275" y="405"/>
                    </a:lnTo>
                    <a:lnTo>
                      <a:pt x="1264" y="407"/>
                    </a:lnTo>
                    <a:lnTo>
                      <a:pt x="1259" y="440"/>
                    </a:lnTo>
                    <a:lnTo>
                      <a:pt x="1239" y="448"/>
                    </a:lnTo>
                    <a:lnTo>
                      <a:pt x="1217" y="430"/>
                    </a:lnTo>
                    <a:lnTo>
                      <a:pt x="1171" y="430"/>
                    </a:lnTo>
                    <a:lnTo>
                      <a:pt x="1164" y="468"/>
                    </a:lnTo>
                    <a:lnTo>
                      <a:pt x="1177" y="489"/>
                    </a:lnTo>
                    <a:lnTo>
                      <a:pt x="1194" y="478"/>
                    </a:lnTo>
                    <a:lnTo>
                      <a:pt x="1213" y="472"/>
                    </a:lnTo>
                    <a:lnTo>
                      <a:pt x="1231" y="485"/>
                    </a:lnTo>
                    <a:lnTo>
                      <a:pt x="1207" y="513"/>
                    </a:lnTo>
                    <a:lnTo>
                      <a:pt x="1231" y="537"/>
                    </a:lnTo>
                    <a:lnTo>
                      <a:pt x="1264" y="545"/>
                    </a:lnTo>
                    <a:lnTo>
                      <a:pt x="1259" y="560"/>
                    </a:lnTo>
                    <a:lnTo>
                      <a:pt x="1248" y="562"/>
                    </a:lnTo>
                    <a:lnTo>
                      <a:pt x="1217" y="647"/>
                    </a:lnTo>
                    <a:lnTo>
                      <a:pt x="1220" y="592"/>
                    </a:lnTo>
                    <a:lnTo>
                      <a:pt x="1234" y="564"/>
                    </a:lnTo>
                    <a:lnTo>
                      <a:pt x="1217" y="553"/>
                    </a:lnTo>
                    <a:lnTo>
                      <a:pt x="1199" y="570"/>
                    </a:lnTo>
                    <a:lnTo>
                      <a:pt x="1209" y="586"/>
                    </a:lnTo>
                    <a:lnTo>
                      <a:pt x="1194" y="596"/>
                    </a:lnTo>
                    <a:lnTo>
                      <a:pt x="1182" y="608"/>
                    </a:lnTo>
                    <a:lnTo>
                      <a:pt x="1183" y="645"/>
                    </a:lnTo>
                    <a:lnTo>
                      <a:pt x="1163" y="661"/>
                    </a:lnTo>
                    <a:lnTo>
                      <a:pt x="1134" y="665"/>
                    </a:lnTo>
                    <a:lnTo>
                      <a:pt x="1145" y="685"/>
                    </a:lnTo>
                    <a:lnTo>
                      <a:pt x="1134" y="708"/>
                    </a:lnTo>
                    <a:lnTo>
                      <a:pt x="1145" y="726"/>
                    </a:lnTo>
                    <a:lnTo>
                      <a:pt x="1128" y="764"/>
                    </a:lnTo>
                    <a:lnTo>
                      <a:pt x="1123" y="799"/>
                    </a:lnTo>
                    <a:lnTo>
                      <a:pt x="1098" y="819"/>
                    </a:lnTo>
                    <a:lnTo>
                      <a:pt x="1067" y="874"/>
                    </a:lnTo>
                    <a:lnTo>
                      <a:pt x="1064" y="912"/>
                    </a:lnTo>
                    <a:lnTo>
                      <a:pt x="1074" y="941"/>
                    </a:lnTo>
                    <a:lnTo>
                      <a:pt x="1088" y="979"/>
                    </a:lnTo>
                    <a:lnTo>
                      <a:pt x="1096" y="1020"/>
                    </a:lnTo>
                    <a:lnTo>
                      <a:pt x="1082" y="1038"/>
                    </a:lnTo>
                    <a:lnTo>
                      <a:pt x="1064" y="1024"/>
                    </a:lnTo>
                    <a:lnTo>
                      <a:pt x="1067" y="1004"/>
                    </a:lnTo>
                    <a:lnTo>
                      <a:pt x="1058" y="959"/>
                    </a:lnTo>
                    <a:lnTo>
                      <a:pt x="1045" y="951"/>
                    </a:lnTo>
                    <a:lnTo>
                      <a:pt x="1037" y="924"/>
                    </a:lnTo>
                    <a:lnTo>
                      <a:pt x="1021" y="924"/>
                    </a:lnTo>
                    <a:lnTo>
                      <a:pt x="1004" y="910"/>
                    </a:lnTo>
                    <a:lnTo>
                      <a:pt x="983" y="914"/>
                    </a:lnTo>
                    <a:lnTo>
                      <a:pt x="964" y="904"/>
                    </a:lnTo>
                    <a:lnTo>
                      <a:pt x="942" y="916"/>
                    </a:lnTo>
                    <a:lnTo>
                      <a:pt x="902" y="906"/>
                    </a:lnTo>
                    <a:lnTo>
                      <a:pt x="928" y="939"/>
                    </a:lnTo>
                    <a:lnTo>
                      <a:pt x="894" y="937"/>
                    </a:lnTo>
                    <a:lnTo>
                      <a:pt x="871" y="912"/>
                    </a:lnTo>
                    <a:lnTo>
                      <a:pt x="829" y="912"/>
                    </a:lnTo>
                    <a:lnTo>
                      <a:pt x="836" y="951"/>
                    </a:lnTo>
                    <a:lnTo>
                      <a:pt x="805" y="939"/>
                    </a:lnTo>
                    <a:lnTo>
                      <a:pt x="790" y="979"/>
                    </a:lnTo>
                    <a:lnTo>
                      <a:pt x="801" y="997"/>
                    </a:lnTo>
                    <a:lnTo>
                      <a:pt x="790" y="1044"/>
                    </a:lnTo>
                    <a:lnTo>
                      <a:pt x="804" y="1099"/>
                    </a:lnTo>
                    <a:lnTo>
                      <a:pt x="820" y="1137"/>
                    </a:lnTo>
                    <a:lnTo>
                      <a:pt x="837" y="1172"/>
                    </a:lnTo>
                    <a:lnTo>
                      <a:pt x="894" y="1170"/>
                    </a:lnTo>
                    <a:lnTo>
                      <a:pt x="918" y="1162"/>
                    </a:lnTo>
                    <a:lnTo>
                      <a:pt x="923" y="1137"/>
                    </a:lnTo>
                    <a:lnTo>
                      <a:pt x="910" y="1117"/>
                    </a:lnTo>
                    <a:lnTo>
                      <a:pt x="912" y="1099"/>
                    </a:lnTo>
                    <a:lnTo>
                      <a:pt x="947" y="1105"/>
                    </a:lnTo>
                    <a:lnTo>
                      <a:pt x="982" y="1095"/>
                    </a:lnTo>
                    <a:lnTo>
                      <a:pt x="982" y="1117"/>
                    </a:lnTo>
                    <a:lnTo>
                      <a:pt x="971" y="1150"/>
                    </a:lnTo>
                    <a:lnTo>
                      <a:pt x="955" y="1176"/>
                    </a:lnTo>
                    <a:lnTo>
                      <a:pt x="950" y="1210"/>
                    </a:lnTo>
                    <a:lnTo>
                      <a:pt x="972" y="1225"/>
                    </a:lnTo>
                    <a:lnTo>
                      <a:pt x="1004" y="1220"/>
                    </a:lnTo>
                    <a:lnTo>
                      <a:pt x="1021" y="1233"/>
                    </a:lnTo>
                    <a:lnTo>
                      <a:pt x="1037" y="1227"/>
                    </a:lnTo>
                    <a:lnTo>
                      <a:pt x="1044" y="1251"/>
                    </a:lnTo>
                    <a:lnTo>
                      <a:pt x="1029" y="1287"/>
                    </a:lnTo>
                    <a:lnTo>
                      <a:pt x="1042" y="1306"/>
                    </a:lnTo>
                    <a:lnTo>
                      <a:pt x="1044" y="1346"/>
                    </a:lnTo>
                    <a:lnTo>
                      <a:pt x="1064" y="1373"/>
                    </a:lnTo>
                    <a:lnTo>
                      <a:pt x="1090" y="1381"/>
                    </a:lnTo>
                    <a:lnTo>
                      <a:pt x="1109" y="1373"/>
                    </a:lnTo>
                    <a:lnTo>
                      <a:pt x="1117" y="1375"/>
                    </a:lnTo>
                    <a:lnTo>
                      <a:pt x="1150" y="1375"/>
                    </a:lnTo>
                    <a:lnTo>
                      <a:pt x="1182" y="1379"/>
                    </a:lnTo>
                    <a:lnTo>
                      <a:pt x="1190" y="1362"/>
                    </a:lnTo>
                    <a:lnTo>
                      <a:pt x="1163" y="1391"/>
                    </a:lnTo>
                    <a:lnTo>
                      <a:pt x="1145" y="1389"/>
                    </a:lnTo>
                    <a:lnTo>
                      <a:pt x="1126" y="1391"/>
                    </a:lnTo>
                    <a:lnTo>
                      <a:pt x="1090" y="1407"/>
                    </a:lnTo>
                    <a:lnTo>
                      <a:pt x="1059" y="1385"/>
                    </a:lnTo>
                    <a:lnTo>
                      <a:pt x="1031" y="1373"/>
                    </a:lnTo>
                    <a:lnTo>
                      <a:pt x="1020" y="1375"/>
                    </a:lnTo>
                    <a:lnTo>
                      <a:pt x="1021" y="1358"/>
                    </a:lnTo>
                    <a:lnTo>
                      <a:pt x="1020" y="1330"/>
                    </a:lnTo>
                    <a:lnTo>
                      <a:pt x="994" y="1306"/>
                    </a:lnTo>
                    <a:lnTo>
                      <a:pt x="945" y="1291"/>
                    </a:lnTo>
                    <a:lnTo>
                      <a:pt x="937" y="1279"/>
                    </a:lnTo>
                    <a:lnTo>
                      <a:pt x="923" y="1281"/>
                    </a:lnTo>
                    <a:lnTo>
                      <a:pt x="909" y="1269"/>
                    </a:lnTo>
                    <a:lnTo>
                      <a:pt x="886" y="1255"/>
                    </a:lnTo>
                    <a:lnTo>
                      <a:pt x="861" y="1220"/>
                    </a:lnTo>
                    <a:lnTo>
                      <a:pt x="834" y="1210"/>
                    </a:lnTo>
                    <a:lnTo>
                      <a:pt x="817" y="1233"/>
                    </a:lnTo>
                    <a:lnTo>
                      <a:pt x="799" y="1216"/>
                    </a:lnTo>
                    <a:lnTo>
                      <a:pt x="777" y="1216"/>
                    </a:lnTo>
                    <a:lnTo>
                      <a:pt x="732" y="1204"/>
                    </a:lnTo>
                    <a:lnTo>
                      <a:pt x="652" y="1143"/>
                    </a:lnTo>
                    <a:lnTo>
                      <a:pt x="646" y="1079"/>
                    </a:lnTo>
                    <a:lnTo>
                      <a:pt x="638" y="1054"/>
                    </a:lnTo>
                    <a:lnTo>
                      <a:pt x="624" y="1038"/>
                    </a:lnTo>
                    <a:lnTo>
                      <a:pt x="606" y="1002"/>
                    </a:lnTo>
                    <a:lnTo>
                      <a:pt x="521" y="882"/>
                    </a:lnTo>
                    <a:lnTo>
                      <a:pt x="521" y="927"/>
                    </a:lnTo>
                    <a:lnTo>
                      <a:pt x="573" y="1006"/>
                    </a:lnTo>
                    <a:lnTo>
                      <a:pt x="595" y="1075"/>
                    </a:lnTo>
                    <a:lnTo>
                      <a:pt x="564" y="1060"/>
                    </a:lnTo>
                    <a:lnTo>
                      <a:pt x="557" y="1020"/>
                    </a:lnTo>
                    <a:lnTo>
                      <a:pt x="514" y="995"/>
                    </a:lnTo>
                    <a:lnTo>
                      <a:pt x="540" y="979"/>
                    </a:lnTo>
                    <a:lnTo>
                      <a:pt x="483" y="937"/>
                    </a:lnTo>
                    <a:lnTo>
                      <a:pt x="505" y="912"/>
                    </a:lnTo>
                    <a:lnTo>
                      <a:pt x="484" y="860"/>
                    </a:lnTo>
                    <a:lnTo>
                      <a:pt x="416" y="756"/>
                    </a:lnTo>
                    <a:lnTo>
                      <a:pt x="408" y="695"/>
                    </a:lnTo>
                    <a:lnTo>
                      <a:pt x="413" y="645"/>
                    </a:lnTo>
                    <a:lnTo>
                      <a:pt x="430" y="596"/>
                    </a:lnTo>
                    <a:lnTo>
                      <a:pt x="430" y="545"/>
                    </a:lnTo>
                    <a:lnTo>
                      <a:pt x="416" y="515"/>
                    </a:lnTo>
                    <a:lnTo>
                      <a:pt x="454" y="505"/>
                    </a:lnTo>
                    <a:lnTo>
                      <a:pt x="408" y="444"/>
                    </a:lnTo>
                    <a:lnTo>
                      <a:pt x="410" y="416"/>
                    </a:lnTo>
                    <a:lnTo>
                      <a:pt x="391" y="379"/>
                    </a:lnTo>
                    <a:lnTo>
                      <a:pt x="398" y="357"/>
                    </a:lnTo>
                    <a:lnTo>
                      <a:pt x="384" y="343"/>
                    </a:lnTo>
                    <a:lnTo>
                      <a:pt x="381" y="320"/>
                    </a:lnTo>
                    <a:lnTo>
                      <a:pt x="368" y="298"/>
                    </a:lnTo>
                    <a:lnTo>
                      <a:pt x="384" y="282"/>
                    </a:lnTo>
                    <a:lnTo>
                      <a:pt x="362" y="268"/>
                    </a:lnTo>
                    <a:lnTo>
                      <a:pt x="343" y="286"/>
                    </a:lnTo>
                    <a:lnTo>
                      <a:pt x="317" y="251"/>
                    </a:lnTo>
                    <a:lnTo>
                      <a:pt x="289" y="241"/>
                    </a:lnTo>
                    <a:lnTo>
                      <a:pt x="248" y="241"/>
                    </a:lnTo>
                    <a:lnTo>
                      <a:pt x="222" y="274"/>
                    </a:lnTo>
                    <a:lnTo>
                      <a:pt x="210" y="264"/>
                    </a:lnTo>
                    <a:lnTo>
                      <a:pt x="232" y="221"/>
                    </a:lnTo>
                    <a:lnTo>
                      <a:pt x="213" y="229"/>
                    </a:lnTo>
                    <a:lnTo>
                      <a:pt x="171" y="274"/>
                    </a:lnTo>
                    <a:lnTo>
                      <a:pt x="129" y="314"/>
                    </a:lnTo>
                    <a:lnTo>
                      <a:pt x="90" y="324"/>
                    </a:lnTo>
                    <a:lnTo>
                      <a:pt x="25" y="365"/>
                    </a:lnTo>
                    <a:lnTo>
                      <a:pt x="0" y="361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808080"/>
                </a:solidFill>
                <a:round/>
              </a:ln>
              <a:effectLst>
                <a:outerShdw dist="71785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719400" y="1333440"/>
                <a:ext cx="721080" cy="641520"/>
              </a:xfrm>
              <a:custGeom>
                <a:avLst/>
                <a:gdLst/>
                <a:ahLst/>
                <a:rect l="l" t="t" r="r" b="b"/>
                <a:pathLst>
                  <a:path w="452" h="372">
                    <a:moveTo>
                      <a:pt x="0" y="75"/>
                    </a:moveTo>
                    <a:lnTo>
                      <a:pt x="10" y="48"/>
                    </a:lnTo>
                    <a:lnTo>
                      <a:pt x="10" y="28"/>
                    </a:lnTo>
                    <a:lnTo>
                      <a:pt x="27" y="0"/>
                    </a:lnTo>
                    <a:lnTo>
                      <a:pt x="109" y="16"/>
                    </a:lnTo>
                    <a:lnTo>
                      <a:pt x="249" y="50"/>
                    </a:lnTo>
                    <a:lnTo>
                      <a:pt x="305" y="77"/>
                    </a:lnTo>
                    <a:lnTo>
                      <a:pt x="379" y="103"/>
                    </a:lnTo>
                    <a:lnTo>
                      <a:pt x="414" y="151"/>
                    </a:lnTo>
                    <a:lnTo>
                      <a:pt x="451" y="177"/>
                    </a:lnTo>
                    <a:lnTo>
                      <a:pt x="438" y="194"/>
                    </a:lnTo>
                    <a:lnTo>
                      <a:pt x="438" y="216"/>
                    </a:lnTo>
                    <a:lnTo>
                      <a:pt x="424" y="222"/>
                    </a:lnTo>
                    <a:lnTo>
                      <a:pt x="411" y="242"/>
                    </a:lnTo>
                    <a:lnTo>
                      <a:pt x="424" y="262"/>
                    </a:lnTo>
                    <a:lnTo>
                      <a:pt x="421" y="278"/>
                    </a:lnTo>
                    <a:lnTo>
                      <a:pt x="406" y="298"/>
                    </a:lnTo>
                    <a:lnTo>
                      <a:pt x="409" y="317"/>
                    </a:lnTo>
                    <a:lnTo>
                      <a:pt x="433" y="337"/>
                    </a:lnTo>
                    <a:lnTo>
                      <a:pt x="435" y="357"/>
                    </a:lnTo>
                    <a:lnTo>
                      <a:pt x="429" y="367"/>
                    </a:lnTo>
                    <a:lnTo>
                      <a:pt x="405" y="371"/>
                    </a:lnTo>
                    <a:lnTo>
                      <a:pt x="387" y="361"/>
                    </a:lnTo>
                    <a:lnTo>
                      <a:pt x="366" y="335"/>
                    </a:lnTo>
                    <a:lnTo>
                      <a:pt x="358" y="335"/>
                    </a:lnTo>
                    <a:lnTo>
                      <a:pt x="347" y="325"/>
                    </a:lnTo>
                    <a:lnTo>
                      <a:pt x="337" y="294"/>
                    </a:lnTo>
                    <a:lnTo>
                      <a:pt x="324" y="284"/>
                    </a:lnTo>
                    <a:lnTo>
                      <a:pt x="298" y="270"/>
                    </a:lnTo>
                    <a:lnTo>
                      <a:pt x="276" y="260"/>
                    </a:lnTo>
                    <a:lnTo>
                      <a:pt x="244" y="232"/>
                    </a:lnTo>
                    <a:lnTo>
                      <a:pt x="229" y="210"/>
                    </a:lnTo>
                    <a:lnTo>
                      <a:pt x="231" y="196"/>
                    </a:lnTo>
                    <a:lnTo>
                      <a:pt x="245" y="183"/>
                    </a:lnTo>
                    <a:lnTo>
                      <a:pt x="233" y="167"/>
                    </a:lnTo>
                    <a:lnTo>
                      <a:pt x="222" y="177"/>
                    </a:lnTo>
                    <a:lnTo>
                      <a:pt x="201" y="151"/>
                    </a:lnTo>
                    <a:lnTo>
                      <a:pt x="196" y="163"/>
                    </a:lnTo>
                    <a:lnTo>
                      <a:pt x="178" y="163"/>
                    </a:lnTo>
                    <a:lnTo>
                      <a:pt x="174" y="153"/>
                    </a:lnTo>
                    <a:lnTo>
                      <a:pt x="174" y="135"/>
                    </a:lnTo>
                    <a:lnTo>
                      <a:pt x="166" y="125"/>
                    </a:lnTo>
                    <a:lnTo>
                      <a:pt x="154" y="127"/>
                    </a:lnTo>
                    <a:lnTo>
                      <a:pt x="137" y="99"/>
                    </a:lnTo>
                    <a:lnTo>
                      <a:pt x="126" y="97"/>
                    </a:lnTo>
                    <a:lnTo>
                      <a:pt x="105" y="85"/>
                    </a:lnTo>
                    <a:lnTo>
                      <a:pt x="67" y="87"/>
                    </a:lnTo>
                    <a:lnTo>
                      <a:pt x="29" y="85"/>
                    </a:lnTo>
                    <a:lnTo>
                      <a:pt x="0" y="75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808080"/>
                </a:solidFill>
                <a:round/>
              </a:ln>
              <a:effectLst>
                <a:outerShdw dist="71785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567840" y="1560960"/>
                <a:ext cx="468720" cy="326160"/>
              </a:xfrm>
              <a:custGeom>
                <a:avLst/>
                <a:gdLst/>
                <a:ahLst/>
                <a:rect l="l" t="t" r="r" b="b"/>
                <a:pathLst>
                  <a:path w="294" h="189">
                    <a:moveTo>
                      <a:pt x="11" y="0"/>
                    </a:moveTo>
                    <a:lnTo>
                      <a:pt x="0" y="13"/>
                    </a:lnTo>
                    <a:lnTo>
                      <a:pt x="0" y="31"/>
                    </a:lnTo>
                    <a:lnTo>
                      <a:pt x="21" y="50"/>
                    </a:lnTo>
                    <a:lnTo>
                      <a:pt x="33" y="46"/>
                    </a:lnTo>
                    <a:lnTo>
                      <a:pt x="37" y="54"/>
                    </a:lnTo>
                    <a:lnTo>
                      <a:pt x="52" y="56"/>
                    </a:lnTo>
                    <a:lnTo>
                      <a:pt x="60" y="44"/>
                    </a:lnTo>
                    <a:lnTo>
                      <a:pt x="89" y="46"/>
                    </a:lnTo>
                    <a:lnTo>
                      <a:pt x="94" y="58"/>
                    </a:lnTo>
                    <a:lnTo>
                      <a:pt x="103" y="64"/>
                    </a:lnTo>
                    <a:lnTo>
                      <a:pt x="127" y="62"/>
                    </a:lnTo>
                    <a:lnTo>
                      <a:pt x="136" y="68"/>
                    </a:lnTo>
                    <a:lnTo>
                      <a:pt x="149" y="76"/>
                    </a:lnTo>
                    <a:lnTo>
                      <a:pt x="160" y="92"/>
                    </a:lnTo>
                    <a:lnTo>
                      <a:pt x="160" y="111"/>
                    </a:lnTo>
                    <a:lnTo>
                      <a:pt x="150" y="117"/>
                    </a:lnTo>
                    <a:lnTo>
                      <a:pt x="155" y="123"/>
                    </a:lnTo>
                    <a:lnTo>
                      <a:pt x="141" y="137"/>
                    </a:lnTo>
                    <a:lnTo>
                      <a:pt x="141" y="155"/>
                    </a:lnTo>
                    <a:lnTo>
                      <a:pt x="161" y="157"/>
                    </a:lnTo>
                    <a:lnTo>
                      <a:pt x="171" y="151"/>
                    </a:lnTo>
                    <a:lnTo>
                      <a:pt x="176" y="145"/>
                    </a:lnTo>
                    <a:lnTo>
                      <a:pt x="182" y="151"/>
                    </a:lnTo>
                    <a:lnTo>
                      <a:pt x="191" y="147"/>
                    </a:lnTo>
                    <a:lnTo>
                      <a:pt x="214" y="157"/>
                    </a:lnTo>
                    <a:lnTo>
                      <a:pt x="228" y="174"/>
                    </a:lnTo>
                    <a:lnTo>
                      <a:pt x="231" y="174"/>
                    </a:lnTo>
                    <a:lnTo>
                      <a:pt x="234" y="184"/>
                    </a:lnTo>
                    <a:lnTo>
                      <a:pt x="249" y="188"/>
                    </a:lnTo>
                    <a:lnTo>
                      <a:pt x="264" y="188"/>
                    </a:lnTo>
                    <a:lnTo>
                      <a:pt x="253" y="178"/>
                    </a:lnTo>
                    <a:lnTo>
                      <a:pt x="258" y="168"/>
                    </a:lnTo>
                    <a:lnTo>
                      <a:pt x="271" y="178"/>
                    </a:lnTo>
                    <a:lnTo>
                      <a:pt x="283" y="182"/>
                    </a:lnTo>
                    <a:lnTo>
                      <a:pt x="287" y="166"/>
                    </a:lnTo>
                    <a:lnTo>
                      <a:pt x="272" y="155"/>
                    </a:lnTo>
                    <a:lnTo>
                      <a:pt x="261" y="155"/>
                    </a:lnTo>
                    <a:lnTo>
                      <a:pt x="249" y="141"/>
                    </a:lnTo>
                    <a:lnTo>
                      <a:pt x="261" y="141"/>
                    </a:lnTo>
                    <a:lnTo>
                      <a:pt x="272" y="149"/>
                    </a:lnTo>
                    <a:lnTo>
                      <a:pt x="293" y="149"/>
                    </a:lnTo>
                    <a:lnTo>
                      <a:pt x="288" y="133"/>
                    </a:lnTo>
                    <a:lnTo>
                      <a:pt x="271" y="119"/>
                    </a:lnTo>
                    <a:lnTo>
                      <a:pt x="258" y="117"/>
                    </a:lnTo>
                    <a:lnTo>
                      <a:pt x="239" y="99"/>
                    </a:lnTo>
                    <a:lnTo>
                      <a:pt x="217" y="94"/>
                    </a:lnTo>
                    <a:lnTo>
                      <a:pt x="199" y="86"/>
                    </a:lnTo>
                    <a:lnTo>
                      <a:pt x="185" y="64"/>
                    </a:lnTo>
                    <a:lnTo>
                      <a:pt x="176" y="34"/>
                    </a:lnTo>
                    <a:lnTo>
                      <a:pt x="161" y="34"/>
                    </a:lnTo>
                    <a:lnTo>
                      <a:pt x="157" y="27"/>
                    </a:lnTo>
                    <a:lnTo>
                      <a:pt x="149" y="29"/>
                    </a:lnTo>
                    <a:lnTo>
                      <a:pt x="133" y="17"/>
                    </a:lnTo>
                    <a:lnTo>
                      <a:pt x="110" y="11"/>
                    </a:lnTo>
                    <a:lnTo>
                      <a:pt x="100" y="19"/>
                    </a:lnTo>
                    <a:lnTo>
                      <a:pt x="78" y="11"/>
                    </a:lnTo>
                    <a:lnTo>
                      <a:pt x="63" y="11"/>
                    </a:lnTo>
                    <a:lnTo>
                      <a:pt x="57" y="1"/>
                    </a:lnTo>
                    <a:lnTo>
                      <a:pt x="49" y="0"/>
                    </a:lnTo>
                    <a:lnTo>
                      <a:pt x="37" y="1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808080"/>
                </a:solidFill>
                <a:round/>
              </a:ln>
              <a:effectLst>
                <a:outerShdw dist="71785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834240" y="3388320"/>
                <a:ext cx="326880" cy="146520"/>
              </a:xfrm>
              <a:custGeom>
                <a:avLst/>
                <a:gdLst/>
                <a:ahLst/>
                <a:rect l="l" t="t" r="r" b="b"/>
                <a:pathLst>
                  <a:path w="205" h="85">
                    <a:moveTo>
                      <a:pt x="0" y="41"/>
                    </a:moveTo>
                    <a:lnTo>
                      <a:pt x="18" y="17"/>
                    </a:lnTo>
                    <a:lnTo>
                      <a:pt x="26" y="17"/>
                    </a:lnTo>
                    <a:lnTo>
                      <a:pt x="40" y="4"/>
                    </a:lnTo>
                    <a:lnTo>
                      <a:pt x="56" y="4"/>
                    </a:lnTo>
                    <a:lnTo>
                      <a:pt x="61" y="2"/>
                    </a:lnTo>
                    <a:lnTo>
                      <a:pt x="67" y="0"/>
                    </a:lnTo>
                    <a:lnTo>
                      <a:pt x="86" y="14"/>
                    </a:lnTo>
                    <a:lnTo>
                      <a:pt x="92" y="23"/>
                    </a:lnTo>
                    <a:lnTo>
                      <a:pt x="97" y="19"/>
                    </a:lnTo>
                    <a:lnTo>
                      <a:pt x="113" y="29"/>
                    </a:lnTo>
                    <a:lnTo>
                      <a:pt x="123" y="29"/>
                    </a:lnTo>
                    <a:lnTo>
                      <a:pt x="131" y="37"/>
                    </a:lnTo>
                    <a:lnTo>
                      <a:pt x="145" y="41"/>
                    </a:lnTo>
                    <a:lnTo>
                      <a:pt x="145" y="55"/>
                    </a:lnTo>
                    <a:lnTo>
                      <a:pt x="172" y="55"/>
                    </a:lnTo>
                    <a:lnTo>
                      <a:pt x="179" y="67"/>
                    </a:lnTo>
                    <a:lnTo>
                      <a:pt x="194" y="67"/>
                    </a:lnTo>
                    <a:lnTo>
                      <a:pt x="204" y="82"/>
                    </a:lnTo>
                    <a:lnTo>
                      <a:pt x="198" y="84"/>
                    </a:lnTo>
                    <a:lnTo>
                      <a:pt x="194" y="78"/>
                    </a:lnTo>
                    <a:lnTo>
                      <a:pt x="193" y="76"/>
                    </a:lnTo>
                    <a:lnTo>
                      <a:pt x="179" y="78"/>
                    </a:lnTo>
                    <a:lnTo>
                      <a:pt x="174" y="82"/>
                    </a:lnTo>
                    <a:lnTo>
                      <a:pt x="161" y="84"/>
                    </a:lnTo>
                    <a:lnTo>
                      <a:pt x="143" y="84"/>
                    </a:lnTo>
                    <a:lnTo>
                      <a:pt x="131" y="84"/>
                    </a:lnTo>
                    <a:lnTo>
                      <a:pt x="131" y="76"/>
                    </a:lnTo>
                    <a:lnTo>
                      <a:pt x="113" y="57"/>
                    </a:lnTo>
                    <a:lnTo>
                      <a:pt x="113" y="45"/>
                    </a:lnTo>
                    <a:lnTo>
                      <a:pt x="92" y="45"/>
                    </a:lnTo>
                    <a:lnTo>
                      <a:pt x="84" y="37"/>
                    </a:lnTo>
                    <a:lnTo>
                      <a:pt x="78" y="45"/>
                    </a:lnTo>
                    <a:lnTo>
                      <a:pt x="72" y="35"/>
                    </a:lnTo>
                    <a:lnTo>
                      <a:pt x="67" y="35"/>
                    </a:lnTo>
                    <a:lnTo>
                      <a:pt x="67" y="21"/>
                    </a:lnTo>
                    <a:lnTo>
                      <a:pt x="61" y="17"/>
                    </a:lnTo>
                    <a:lnTo>
                      <a:pt x="41" y="19"/>
                    </a:lnTo>
                    <a:lnTo>
                      <a:pt x="30" y="35"/>
                    </a:lnTo>
                    <a:lnTo>
                      <a:pt x="16" y="37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808080"/>
                </a:solidFill>
                <a:round/>
              </a:ln>
              <a:effectLst>
                <a:outerShdw dist="71785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115040" y="3498480"/>
                <a:ext cx="210240" cy="120600"/>
              </a:xfrm>
              <a:custGeom>
                <a:avLst/>
                <a:gdLst/>
                <a:ahLst/>
                <a:rect l="l" t="t" r="r" b="b"/>
                <a:pathLst>
                  <a:path w="132" h="70">
                    <a:moveTo>
                      <a:pt x="0" y="53"/>
                    </a:moveTo>
                    <a:lnTo>
                      <a:pt x="13" y="55"/>
                    </a:lnTo>
                    <a:lnTo>
                      <a:pt x="40" y="53"/>
                    </a:lnTo>
                    <a:lnTo>
                      <a:pt x="53" y="67"/>
                    </a:lnTo>
                    <a:lnTo>
                      <a:pt x="70" y="69"/>
                    </a:lnTo>
                    <a:lnTo>
                      <a:pt x="78" y="53"/>
                    </a:lnTo>
                    <a:lnTo>
                      <a:pt x="75" y="48"/>
                    </a:lnTo>
                    <a:lnTo>
                      <a:pt x="83" y="40"/>
                    </a:lnTo>
                    <a:lnTo>
                      <a:pt x="99" y="53"/>
                    </a:lnTo>
                    <a:lnTo>
                      <a:pt x="112" y="53"/>
                    </a:lnTo>
                    <a:lnTo>
                      <a:pt x="112" y="46"/>
                    </a:lnTo>
                    <a:lnTo>
                      <a:pt x="120" y="46"/>
                    </a:lnTo>
                    <a:lnTo>
                      <a:pt x="131" y="33"/>
                    </a:lnTo>
                    <a:lnTo>
                      <a:pt x="123" y="31"/>
                    </a:lnTo>
                    <a:lnTo>
                      <a:pt x="123" y="19"/>
                    </a:lnTo>
                    <a:lnTo>
                      <a:pt x="123" y="10"/>
                    </a:lnTo>
                    <a:lnTo>
                      <a:pt x="105" y="6"/>
                    </a:lnTo>
                    <a:lnTo>
                      <a:pt x="91" y="10"/>
                    </a:lnTo>
                    <a:lnTo>
                      <a:pt x="78" y="10"/>
                    </a:lnTo>
                    <a:lnTo>
                      <a:pt x="59" y="6"/>
                    </a:lnTo>
                    <a:lnTo>
                      <a:pt x="45" y="0"/>
                    </a:lnTo>
                    <a:lnTo>
                      <a:pt x="40" y="6"/>
                    </a:lnTo>
                    <a:lnTo>
                      <a:pt x="39" y="21"/>
                    </a:lnTo>
                    <a:lnTo>
                      <a:pt x="24" y="21"/>
                    </a:lnTo>
                    <a:lnTo>
                      <a:pt x="21" y="33"/>
                    </a:lnTo>
                    <a:lnTo>
                      <a:pt x="13" y="38"/>
                    </a:lnTo>
                    <a:lnTo>
                      <a:pt x="0" y="53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808080"/>
                </a:solidFill>
                <a:round/>
              </a:ln>
              <a:effectLst>
                <a:outerShdw dist="71785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989040" y="3864600"/>
                <a:ext cx="1324080" cy="2646720"/>
              </a:xfrm>
              <a:custGeom>
                <a:avLst/>
                <a:gdLst/>
                <a:ahLst/>
                <a:rect l="l" t="t" r="r" b="b"/>
                <a:pathLst>
                  <a:path w="830" h="1534">
                    <a:moveTo>
                      <a:pt x="63" y="67"/>
                    </a:moveTo>
                    <a:lnTo>
                      <a:pt x="74" y="49"/>
                    </a:lnTo>
                    <a:lnTo>
                      <a:pt x="95" y="24"/>
                    </a:lnTo>
                    <a:lnTo>
                      <a:pt x="125" y="10"/>
                    </a:lnTo>
                    <a:lnTo>
                      <a:pt x="141" y="0"/>
                    </a:lnTo>
                    <a:lnTo>
                      <a:pt x="157" y="2"/>
                    </a:lnTo>
                    <a:lnTo>
                      <a:pt x="152" y="14"/>
                    </a:lnTo>
                    <a:lnTo>
                      <a:pt x="135" y="28"/>
                    </a:lnTo>
                    <a:lnTo>
                      <a:pt x="130" y="51"/>
                    </a:lnTo>
                    <a:lnTo>
                      <a:pt x="135" y="73"/>
                    </a:lnTo>
                    <a:lnTo>
                      <a:pt x="151" y="73"/>
                    </a:lnTo>
                    <a:lnTo>
                      <a:pt x="157" y="49"/>
                    </a:lnTo>
                    <a:lnTo>
                      <a:pt x="162" y="28"/>
                    </a:lnTo>
                    <a:lnTo>
                      <a:pt x="171" y="36"/>
                    </a:lnTo>
                    <a:lnTo>
                      <a:pt x="184" y="47"/>
                    </a:lnTo>
                    <a:lnTo>
                      <a:pt x="203" y="41"/>
                    </a:lnTo>
                    <a:lnTo>
                      <a:pt x="216" y="51"/>
                    </a:lnTo>
                    <a:lnTo>
                      <a:pt x="219" y="65"/>
                    </a:lnTo>
                    <a:lnTo>
                      <a:pt x="250" y="59"/>
                    </a:lnTo>
                    <a:lnTo>
                      <a:pt x="311" y="51"/>
                    </a:lnTo>
                    <a:lnTo>
                      <a:pt x="333" y="93"/>
                    </a:lnTo>
                    <a:lnTo>
                      <a:pt x="371" y="112"/>
                    </a:lnTo>
                    <a:lnTo>
                      <a:pt x="369" y="130"/>
                    </a:lnTo>
                    <a:lnTo>
                      <a:pt x="385" y="120"/>
                    </a:lnTo>
                    <a:lnTo>
                      <a:pt x="403" y="120"/>
                    </a:lnTo>
                    <a:lnTo>
                      <a:pt x="425" y="138"/>
                    </a:lnTo>
                    <a:lnTo>
                      <a:pt x="452" y="134"/>
                    </a:lnTo>
                    <a:lnTo>
                      <a:pt x="474" y="138"/>
                    </a:lnTo>
                    <a:lnTo>
                      <a:pt x="510" y="170"/>
                    </a:lnTo>
                    <a:lnTo>
                      <a:pt x="548" y="211"/>
                    </a:lnTo>
                    <a:lnTo>
                      <a:pt x="564" y="256"/>
                    </a:lnTo>
                    <a:lnTo>
                      <a:pt x="555" y="290"/>
                    </a:lnTo>
                    <a:lnTo>
                      <a:pt x="601" y="304"/>
                    </a:lnTo>
                    <a:lnTo>
                      <a:pt x="677" y="322"/>
                    </a:lnTo>
                    <a:lnTo>
                      <a:pt x="756" y="341"/>
                    </a:lnTo>
                    <a:lnTo>
                      <a:pt x="807" y="381"/>
                    </a:lnTo>
                    <a:lnTo>
                      <a:pt x="829" y="418"/>
                    </a:lnTo>
                    <a:lnTo>
                      <a:pt x="829" y="466"/>
                    </a:lnTo>
                    <a:lnTo>
                      <a:pt x="808" y="509"/>
                    </a:lnTo>
                    <a:lnTo>
                      <a:pt x="786" y="533"/>
                    </a:lnTo>
                    <a:lnTo>
                      <a:pt x="772" y="547"/>
                    </a:lnTo>
                    <a:lnTo>
                      <a:pt x="756" y="580"/>
                    </a:lnTo>
                    <a:lnTo>
                      <a:pt x="755" y="608"/>
                    </a:lnTo>
                    <a:lnTo>
                      <a:pt x="756" y="643"/>
                    </a:lnTo>
                    <a:lnTo>
                      <a:pt x="748" y="677"/>
                    </a:lnTo>
                    <a:lnTo>
                      <a:pt x="735" y="685"/>
                    </a:lnTo>
                    <a:lnTo>
                      <a:pt x="732" y="704"/>
                    </a:lnTo>
                    <a:lnTo>
                      <a:pt x="718" y="720"/>
                    </a:lnTo>
                    <a:lnTo>
                      <a:pt x="716" y="738"/>
                    </a:lnTo>
                    <a:lnTo>
                      <a:pt x="697" y="758"/>
                    </a:lnTo>
                    <a:lnTo>
                      <a:pt x="669" y="793"/>
                    </a:lnTo>
                    <a:lnTo>
                      <a:pt x="645" y="803"/>
                    </a:lnTo>
                    <a:lnTo>
                      <a:pt x="629" y="801"/>
                    </a:lnTo>
                    <a:lnTo>
                      <a:pt x="599" y="819"/>
                    </a:lnTo>
                    <a:lnTo>
                      <a:pt x="569" y="858"/>
                    </a:lnTo>
                    <a:lnTo>
                      <a:pt x="563" y="874"/>
                    </a:lnTo>
                    <a:lnTo>
                      <a:pt x="563" y="894"/>
                    </a:lnTo>
                    <a:lnTo>
                      <a:pt x="569" y="915"/>
                    </a:lnTo>
                    <a:lnTo>
                      <a:pt x="555" y="939"/>
                    </a:lnTo>
                    <a:lnTo>
                      <a:pt x="555" y="957"/>
                    </a:lnTo>
                    <a:lnTo>
                      <a:pt x="531" y="977"/>
                    </a:lnTo>
                    <a:lnTo>
                      <a:pt x="512" y="990"/>
                    </a:lnTo>
                    <a:lnTo>
                      <a:pt x="498" y="1014"/>
                    </a:lnTo>
                    <a:lnTo>
                      <a:pt x="491" y="1036"/>
                    </a:lnTo>
                    <a:lnTo>
                      <a:pt x="472" y="1063"/>
                    </a:lnTo>
                    <a:lnTo>
                      <a:pt x="464" y="1059"/>
                    </a:lnTo>
                    <a:lnTo>
                      <a:pt x="447" y="1059"/>
                    </a:lnTo>
                    <a:lnTo>
                      <a:pt x="428" y="1069"/>
                    </a:lnTo>
                    <a:lnTo>
                      <a:pt x="442" y="1081"/>
                    </a:lnTo>
                    <a:lnTo>
                      <a:pt x="442" y="1107"/>
                    </a:lnTo>
                    <a:lnTo>
                      <a:pt x="439" y="1127"/>
                    </a:lnTo>
                    <a:lnTo>
                      <a:pt x="430" y="1142"/>
                    </a:lnTo>
                    <a:lnTo>
                      <a:pt x="403" y="1144"/>
                    </a:lnTo>
                    <a:lnTo>
                      <a:pt x="384" y="1152"/>
                    </a:lnTo>
                    <a:lnTo>
                      <a:pt x="372" y="1168"/>
                    </a:lnTo>
                    <a:lnTo>
                      <a:pt x="372" y="1192"/>
                    </a:lnTo>
                    <a:lnTo>
                      <a:pt x="349" y="1200"/>
                    </a:lnTo>
                    <a:lnTo>
                      <a:pt x="328" y="1192"/>
                    </a:lnTo>
                    <a:lnTo>
                      <a:pt x="322" y="1207"/>
                    </a:lnTo>
                    <a:lnTo>
                      <a:pt x="333" y="1217"/>
                    </a:lnTo>
                    <a:lnTo>
                      <a:pt x="327" y="1255"/>
                    </a:lnTo>
                    <a:lnTo>
                      <a:pt x="319" y="1288"/>
                    </a:lnTo>
                    <a:lnTo>
                      <a:pt x="292" y="1288"/>
                    </a:lnTo>
                    <a:lnTo>
                      <a:pt x="284" y="1300"/>
                    </a:lnTo>
                    <a:lnTo>
                      <a:pt x="287" y="1326"/>
                    </a:lnTo>
                    <a:lnTo>
                      <a:pt x="300" y="1326"/>
                    </a:lnTo>
                    <a:lnTo>
                      <a:pt x="311" y="1340"/>
                    </a:lnTo>
                    <a:lnTo>
                      <a:pt x="304" y="1365"/>
                    </a:lnTo>
                    <a:lnTo>
                      <a:pt x="290" y="1367"/>
                    </a:lnTo>
                    <a:lnTo>
                      <a:pt x="268" y="1377"/>
                    </a:lnTo>
                    <a:lnTo>
                      <a:pt x="262" y="1399"/>
                    </a:lnTo>
                    <a:lnTo>
                      <a:pt x="260" y="1428"/>
                    </a:lnTo>
                    <a:lnTo>
                      <a:pt x="246" y="1442"/>
                    </a:lnTo>
                    <a:lnTo>
                      <a:pt x="296" y="1494"/>
                    </a:lnTo>
                    <a:lnTo>
                      <a:pt x="311" y="1519"/>
                    </a:lnTo>
                    <a:lnTo>
                      <a:pt x="303" y="1533"/>
                    </a:lnTo>
                    <a:lnTo>
                      <a:pt x="281" y="1523"/>
                    </a:lnTo>
                    <a:lnTo>
                      <a:pt x="262" y="1503"/>
                    </a:lnTo>
                    <a:lnTo>
                      <a:pt x="236" y="1488"/>
                    </a:lnTo>
                    <a:lnTo>
                      <a:pt x="211" y="1464"/>
                    </a:lnTo>
                    <a:lnTo>
                      <a:pt x="195" y="1432"/>
                    </a:lnTo>
                    <a:lnTo>
                      <a:pt x="193" y="1409"/>
                    </a:lnTo>
                    <a:lnTo>
                      <a:pt x="197" y="1387"/>
                    </a:lnTo>
                    <a:lnTo>
                      <a:pt x="195" y="1225"/>
                    </a:lnTo>
                    <a:lnTo>
                      <a:pt x="189" y="1192"/>
                    </a:lnTo>
                    <a:lnTo>
                      <a:pt x="171" y="1162"/>
                    </a:lnTo>
                    <a:lnTo>
                      <a:pt x="171" y="1134"/>
                    </a:lnTo>
                    <a:lnTo>
                      <a:pt x="184" y="1101"/>
                    </a:lnTo>
                    <a:lnTo>
                      <a:pt x="193" y="1061"/>
                    </a:lnTo>
                    <a:lnTo>
                      <a:pt x="189" y="1022"/>
                    </a:lnTo>
                    <a:lnTo>
                      <a:pt x="187" y="1004"/>
                    </a:lnTo>
                    <a:lnTo>
                      <a:pt x="185" y="981"/>
                    </a:lnTo>
                    <a:lnTo>
                      <a:pt x="192" y="971"/>
                    </a:lnTo>
                    <a:lnTo>
                      <a:pt x="195" y="925"/>
                    </a:lnTo>
                    <a:lnTo>
                      <a:pt x="192" y="904"/>
                    </a:lnTo>
                    <a:lnTo>
                      <a:pt x="200" y="848"/>
                    </a:lnTo>
                    <a:lnTo>
                      <a:pt x="192" y="801"/>
                    </a:lnTo>
                    <a:lnTo>
                      <a:pt x="197" y="775"/>
                    </a:lnTo>
                    <a:lnTo>
                      <a:pt x="208" y="728"/>
                    </a:lnTo>
                    <a:lnTo>
                      <a:pt x="197" y="698"/>
                    </a:lnTo>
                    <a:lnTo>
                      <a:pt x="178" y="675"/>
                    </a:lnTo>
                    <a:lnTo>
                      <a:pt x="171" y="649"/>
                    </a:lnTo>
                    <a:lnTo>
                      <a:pt x="149" y="627"/>
                    </a:lnTo>
                    <a:lnTo>
                      <a:pt x="125" y="612"/>
                    </a:lnTo>
                    <a:lnTo>
                      <a:pt x="90" y="604"/>
                    </a:lnTo>
                    <a:lnTo>
                      <a:pt x="74" y="570"/>
                    </a:lnTo>
                    <a:lnTo>
                      <a:pt x="52" y="537"/>
                    </a:lnTo>
                    <a:lnTo>
                      <a:pt x="51" y="509"/>
                    </a:lnTo>
                    <a:lnTo>
                      <a:pt x="48" y="483"/>
                    </a:lnTo>
                    <a:lnTo>
                      <a:pt x="41" y="466"/>
                    </a:lnTo>
                    <a:lnTo>
                      <a:pt x="30" y="446"/>
                    </a:lnTo>
                    <a:lnTo>
                      <a:pt x="14" y="436"/>
                    </a:lnTo>
                    <a:lnTo>
                      <a:pt x="2" y="416"/>
                    </a:lnTo>
                    <a:lnTo>
                      <a:pt x="16" y="399"/>
                    </a:lnTo>
                    <a:lnTo>
                      <a:pt x="16" y="355"/>
                    </a:lnTo>
                    <a:lnTo>
                      <a:pt x="8" y="333"/>
                    </a:lnTo>
                    <a:lnTo>
                      <a:pt x="0" y="312"/>
                    </a:lnTo>
                    <a:lnTo>
                      <a:pt x="8" y="278"/>
                    </a:lnTo>
                    <a:lnTo>
                      <a:pt x="40" y="197"/>
                    </a:lnTo>
                    <a:lnTo>
                      <a:pt x="41" y="162"/>
                    </a:lnTo>
                    <a:lnTo>
                      <a:pt x="60" y="124"/>
                    </a:lnTo>
                    <a:lnTo>
                      <a:pt x="60" y="105"/>
                    </a:lnTo>
                    <a:lnTo>
                      <a:pt x="63" y="67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808080"/>
                </a:solidFill>
                <a:round/>
              </a:ln>
              <a:effectLst>
                <a:outerShdw dist="71785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" name=""/>
          <p:cNvSpPr/>
          <p:nvPr/>
        </p:nvSpPr>
        <p:spPr>
          <a:xfrm>
            <a:off x="6669000" y="1262160"/>
            <a:ext cx="2392560" cy="3071880"/>
          </a:xfrm>
          <a:prstGeom prst="ellipse">
            <a:avLst/>
          </a:prstGeom>
          <a:gradFill rotWithShape="0">
            <a:gsLst>
              <a:gs pos="0">
                <a:srgbClr val="ff99cc"/>
              </a:gs>
              <a:gs pos="100000">
                <a:srgbClr val="fee5f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4600" y="259920"/>
            <a:ext cx="648504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ujitsu’s Core Bus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15720" y="984240"/>
            <a:ext cx="841212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4800">
            <a:off x="-556920" y="2044800"/>
            <a:ext cx="7350120" cy="2471760"/>
          </a:xfrm>
          <a:prstGeom prst="rightArrow">
            <a:avLst>
              <a:gd name="adj1" fmla="val 100000"/>
              <a:gd name="adj2" fmla="val 35505"/>
            </a:avLst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07600" y="3753000"/>
            <a:ext cx="12600" cy="1387440"/>
          </a:xfrm>
          <a:prstGeom prst="line">
            <a:avLst/>
          </a:prstGeom>
          <a:ln w="57240">
            <a:solidFill>
              <a:srgbClr val="6854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1480" y="2765520"/>
            <a:ext cx="1960560" cy="18604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3080" y="3455640"/>
            <a:ext cx="181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Techn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7440" y="2313000"/>
            <a:ext cx="2124360" cy="20257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56000" y="3109680"/>
            <a:ext cx="157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Platfor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52960" y="1746360"/>
            <a:ext cx="2465280" cy="22096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00160" y="2511360"/>
            <a:ext cx="1335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48000" y="3819600"/>
            <a:ext cx="0" cy="1143000"/>
          </a:xfrm>
          <a:prstGeom prst="line">
            <a:avLst/>
          </a:prstGeom>
          <a:ln w="57240">
            <a:solidFill>
              <a:srgbClr val="8adad8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88000" y="3807000"/>
            <a:ext cx="0" cy="86652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960" y="5012640"/>
            <a:ext cx="170496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5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o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68840" y="4521240"/>
            <a:ext cx="23004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5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twork Serv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575240"/>
            <a:ext cx="2108160" cy="2068200"/>
            <a:chOff x="2268360" y="4575240"/>
            <a:chExt cx="2108160" cy="2068200"/>
          </a:xfrm>
        </p:grpSpPr>
        <p:sp>
          <p:nvSpPr>
            <p:cNvPr id="99" name=""/>
            <p:cNvSpPr/>
            <p:nvPr/>
          </p:nvSpPr>
          <p:spPr>
            <a:xfrm>
              <a:off x="2268360" y="4575240"/>
              <a:ext cx="2108160" cy="20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5000"/>
                </a:lnSpc>
                <a:spcBef>
                  <a:spcPts val="374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mpu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374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bile dev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374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374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work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374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374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tc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37920" y="5257440"/>
              <a:ext cx="157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Softw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667560" y="2160720"/>
            <a:ext cx="23940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et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rpor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66680" y="1143000"/>
            <a:ext cx="73440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7468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Languages and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Java, COBOL, C/C++,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MSP/FSP for mainfram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Linux, Solaris,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e-Business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NTERSTAGE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Database / Data Ware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ymfo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Operations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ystemWal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Software Group 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8600" y="609480"/>
            <a:ext cx="86644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 a platform for APWORK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 IDE supporting  Java and COBOL for the Fujitsu’s application server (INTERSTAG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 a platform for the multi-platform C/C++ &amp; Fortran application development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 a platform for the embedded Java application development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4648320"/>
            <a:ext cx="7697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jitsu would announce when its participation in Eclipse is accept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jitsu will endorse Eclipse when Fujitsu’s IDE, which adopts Eclipse as an application development environment platform, is relea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How does Fujitsu use Eclip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685800"/>
            <a:ext cx="85122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26676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ujitsu will be able to develop and provide tools for Eclipse as follow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lnSpc>
                <a:spcPct val="85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BOL development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lnSpc>
                <a:spcPct val="85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mbedded Java application development tool(for mobile phone, PDA …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lnSpc>
                <a:spcPct val="85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y tools related to 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6676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ujitsu will be able to contribute Eclipse customization for international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6676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ujitsu will be able to contribute to improving the quality of Eclipse through the quality assurance process for our Eclipse-based 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66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jitsu develops products using Eclipse. The results of the testing of our products will be shared with the commun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6676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ujitsu will be able to contribute to evangelizing Eclipse in Japan because of Fujitsu’s development tool customer ba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667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667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What does Fujitsu contribute to Eclip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  <a:ea typeface="Cordia New"/>
              </a:rPr>
              <a:t>APWORK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ordia New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1371600"/>
            <a:ext cx="682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APWORKS is Fujitsu’s integrated development environment for Java for developing applications on the INTERSTAGE Application Server. </a:t>
            </a:r>
            <a:br>
              <a:rPr sz="2400"/>
            </a:b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4395960"/>
            <a:ext cx="69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 can be developed and debugged efficiently using several APWORKS GUI tool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3048120"/>
            <a:ext cx="727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WORKS supports Java and COBOL application development from client side to Server side with the latest Java/CORBA/Web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977160" y="3205080"/>
            <a:ext cx="1485720" cy="13064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0920" y="981000"/>
            <a:ext cx="8553240" cy="1693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9520" y="2838600"/>
            <a:ext cx="5438880" cy="1915920"/>
          </a:xfrm>
          <a:prstGeom prst="rect">
            <a:avLst/>
          </a:pr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76400" y="5376960"/>
            <a:ext cx="6296040" cy="1199880"/>
          </a:xfrm>
          <a:prstGeom prst="rect">
            <a:avLst/>
          </a:pr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47960" y="2781360"/>
            <a:ext cx="2733840" cy="180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1052640"/>
            <a:ext cx="8431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STAGE AP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1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grated Development Environment(IDE) for Java based on J2EE(EJB1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1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upports development of application using SOAP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STAGE WEBCOORDIN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1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eb Application Framework with JSP (Java Server Pages) custom tags libr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1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motes independent Web Application, improving expandability and maintainabil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2914560" y="3133800"/>
            <a:ext cx="2247840" cy="1166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128600" y="4965840"/>
            <a:ext cx="6202440" cy="295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STAGE Application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03560" y="5486400"/>
            <a:ext cx="3493800" cy="324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STAGE WEBCOORDIN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460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62200" y="4657680"/>
            <a:ext cx="51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Server Applications (Servlet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JSP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EJB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CORB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76400" y="2819520"/>
            <a:ext cx="276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ERSTAGE AP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9760" y="2870280"/>
            <a:ext cx="26384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High productivity programs can be developed using wiz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Useful GUI Components for business syste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SzPct val="10300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Supports whole system development from PDAs’ applications to Server side Java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SzPct val="10300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Supports JDK Versions from JDK1.1 to JDK1.3.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87440" y="5842080"/>
            <a:ext cx="580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buSzPct val="10300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ivide web application into three elements (Presentation, Data, Log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SzPct val="10300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Support easy screen transition, easy session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SzPct val="10300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Provide rich tag lib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1360" y="5249520"/>
            <a:ext cx="0" cy="2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2"/>
          <a:stretch/>
        </p:blipFill>
        <p:spPr>
          <a:xfrm>
            <a:off x="6502320" y="2978280"/>
            <a:ext cx="1447920" cy="1241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581800" y="3743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95760" y="3762360"/>
            <a:ext cx="8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p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3"/>
          <a:stretch/>
        </p:blipFill>
        <p:spPr>
          <a:xfrm>
            <a:off x="3494160" y="3429000"/>
            <a:ext cx="1922400" cy="11397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532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Development tools for INTER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Template_Wizard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495680" cy="3375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04920" y="990720"/>
            <a:ext cx="240012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template option under COBOL from preference dialog box where user can create/edit /remove/enable/disable syntax templ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95480" y="1557360"/>
            <a:ext cx="2181240" cy="4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ized tree of templates &amp; corresponding template n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438280" y="198108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54100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Syntax of code shown based on template name selection, which can be edited only in edit 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2514600" y="3885840"/>
            <a:ext cx="91440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762120" y="1980720"/>
            <a:ext cx="7617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5410080"/>
            <a:ext cx="137160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If a new Template or category is added now, it will be under this selected categ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600200" y="3123720"/>
            <a:ext cx="609480" cy="227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-457200"/>
            <a:ext cx="9144000" cy="49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2640" rIns="457200" tIns="914040" bIns="914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-1179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64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64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64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64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64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410080"/>
            <a:ext cx="2743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lighted erroneous part of the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5791320"/>
            <a:ext cx="2819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click of this error message, it jumps to the corresponding line in the editor and highlights the erroneous part of the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-158760"/>
            <a:ext cx="9144000" cy="32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2640" rIns="457200" tIns="914040" bIns="914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12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TaskView_311_Error_Tag_Jump" descr=""/>
          <p:cNvPicPr/>
          <p:nvPr/>
        </p:nvPicPr>
        <p:blipFill>
          <a:blip r:embed="rId2"/>
          <a:stretch/>
        </p:blipFill>
        <p:spPr>
          <a:xfrm>
            <a:off x="4876920" y="2057400"/>
            <a:ext cx="4095720" cy="3352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20574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4800600"/>
            <a:ext cx="9907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791320" y="4343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3352680" y="198108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Example of COBOL Development tools built on Ecli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onald Alepin- B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219320"/>
            <a:ext cx="9144000" cy="23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Fujitsu Ltd./Fujitsu Software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001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General Manager, Enterprise Products Div.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('00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to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pres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INTERSTAGE e-Business Platfor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spcBef>
                <a:spcPts val="1500"/>
              </a:spcBef>
              <a:buSzPct val="10281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Initiated QoEtient Internet QoS Measureme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 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048120"/>
            <a:ext cx="9144000" cy="22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45720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ctotum, Fujitsu Limited ('85 to pres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J Byte-code compiler Proj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-Tier Compu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spcBef>
                <a:spcPts val="1500"/>
              </a:spcBef>
              <a:buSzPct val="10281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frame Computing syste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4876920"/>
            <a:ext cx="91440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457200">
              <a:lnSpc>
                <a:spcPct val="100000"/>
              </a:lnSpc>
              <a:spcBef>
                <a:spcPts val="1125"/>
              </a:spcBef>
              <a:buSzPct val="10279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ftware Design/Architecture &amp; Implement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('69 to '8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erating System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SzPct val="102812"/>
              <a:buBlip>
                <a:blip r:embed="rId10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urity 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inframe and PC distributed computing syste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3T02:45:15Z</dcterms:created>
  <dc:creator>JAVA開発部</dc:creator>
  <dc:description/>
  <dc:language>en-US</dc:language>
  <cp:lastModifiedBy>OTI Employee</cp:lastModifiedBy>
  <dcterms:modified xsi:type="dcterms:W3CDTF">2002-05-14T15:36:15Z</dcterms:modified>
  <cp:revision>45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27696585</vt:r8>
  </property>
  <property fmtid="{D5CDD505-2E9C-101B-9397-08002B2CF9AE}" pid="3" name="_AuthorEmailDisplayName">
    <vt:lpwstr>Alepin, Ronald</vt:lpwstr>
  </property>
  <property fmtid="{D5CDD505-2E9C-101B-9397-08002B2CF9AE}" pid="4" name="_EmailSubject">
    <vt:lpwstr>Eclipse Material</vt:lpwstr>
  </property>
</Properties>
</file>